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3.png" ContentType="image/png"/>
  <Override PartName="/ppt/media/image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AutoShape 1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AutoShape 2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589200" y="9459720"/>
            <a:ext cx="29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4/</a:t>
            </a:r>
            <a:fld id="{9660A55C-5496-4268-9C0B-106EEEC53C4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Picture 7" descr=""/>
          <p:cNvPicPr/>
          <p:nvPr/>
        </p:nvPicPr>
        <p:blipFill>
          <a:blip r:embed="rId2"/>
          <a:stretch/>
        </p:blipFill>
        <p:spPr>
          <a:xfrm>
            <a:off x="4734000" y="152280"/>
            <a:ext cx="1622520" cy="480960"/>
          </a:xfrm>
          <a:prstGeom prst="rect">
            <a:avLst/>
          </a:prstGeom>
          <a:ln w="0">
            <a:noFill/>
          </a:ln>
        </p:spPr>
      </p:pic>
      <p:sp>
        <p:nvSpPr>
          <p:cNvPr id="47" name="Text Box 8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914040" y="4724280"/>
            <a:ext cx="494676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Img"/>
          </p:nvPr>
        </p:nvSpPr>
        <p:spPr>
          <a:xfrm>
            <a:off x="894960" y="752040"/>
            <a:ext cx="4946760" cy="37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080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38080" y="3940920"/>
            <a:ext cx="784080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556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89120" y="167616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39800" y="167616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38080" y="394092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89120" y="394092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39800" y="394092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7840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080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838080" y="380520"/>
            <a:ext cx="776448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380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556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40920"/>
            <a:ext cx="784080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"/>
          <p:cNvSpPr/>
          <p:nvPr/>
        </p:nvSpPr>
        <p:spPr>
          <a:xfrm>
            <a:off x="2560680" y="6400800"/>
            <a:ext cx="632448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6666ff"/>
                </a:solidFill>
                <a:latin typeface="Bitstream Vera Sans"/>
                <a:ea typeface="Tahoma"/>
              </a:rPr>
              <a:t>                               </a:t>
            </a:r>
            <a:r>
              <a:rPr b="1" lang="en-GB" sz="1400" spc="-1" strike="noStrike">
                <a:solidFill>
                  <a:srgbClr val="6666ff"/>
                </a:solidFill>
                <a:latin typeface="Bitstream Vera Sans"/>
                <a:ea typeface="Tahoma"/>
              </a:rPr>
              <a:t>- </a:t>
            </a:r>
            <a:fld id="{CD3F6386-D250-473A-81AF-73237905F35F}" type="slidenum">
              <a:rPr b="1" lang="en-GB" sz="1400" spc="-1" strike="noStrike">
                <a:solidFill>
                  <a:srgbClr val="6666ff"/>
                </a:solidFill>
                <a:latin typeface="Bitstream Vera Sans"/>
                <a:ea typeface="Tahoma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Bitstream Vera Sans"/>
                <a:ea typeface="Tahoma"/>
              </a:rPr>
              <a:t> -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784080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"/>
          <p:cNvSpPr/>
          <p:nvPr/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480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itstream Vera Sans"/>
              </a:rPr>
              <a:t>Sissejuhatus infotehnoloogias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t-EE" sz="3600" spc="-1" strike="noStrike">
                <a:solidFill>
                  <a:srgbClr val="000000"/>
                </a:solidFill>
                <a:latin typeface="Bitstream Vera Sans"/>
              </a:rPr>
              <a:t>2. nädal: arvuti riistvar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Logic gates: simple id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2" name="Group 2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173" name="Line 3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Line 4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75" name="Picture 5" descr=""/>
          <p:cNvPicPr/>
          <p:nvPr/>
        </p:nvPicPr>
        <p:blipFill>
          <a:blip r:embed="rId1"/>
          <a:stretch/>
        </p:blipFill>
        <p:spPr>
          <a:xfrm>
            <a:off x="1862280" y="2514600"/>
            <a:ext cx="5871960" cy="337356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6"/>
          <p:cNvSpPr/>
          <p:nvPr/>
        </p:nvSpPr>
        <p:spPr>
          <a:xfrm>
            <a:off x="915120" y="1066680"/>
            <a:ext cx="789624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MOSFET: metal-oxide semiconductor field-effect transis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Input near 2V: circuit on. Input near  0V: circuit off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CMOS: transistor pairs for low power consump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8" name="Group 2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179" name="Line 3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Line 4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1" name="Rectangle 6"/>
          <p:cNvSpPr/>
          <p:nvPr/>
        </p:nvSpPr>
        <p:spPr>
          <a:xfrm>
            <a:off x="568440" y="1066680"/>
            <a:ext cx="766764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MOSFET transistors always in complementary P/N pairs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switch only momentary, most of the time no curr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Picture 1" descr=""/>
          <p:cNvPicPr/>
          <p:nvPr/>
        </p:nvPicPr>
        <p:blipFill>
          <a:blip r:embed="rId1"/>
          <a:stretch/>
        </p:blipFill>
        <p:spPr>
          <a:xfrm>
            <a:off x="3867120" y="2048040"/>
            <a:ext cx="3962520" cy="396216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6"/>
          <p:cNvSpPr/>
          <p:nvPr/>
        </p:nvSpPr>
        <p:spPr>
          <a:xfrm>
            <a:off x="762120" y="2184480"/>
            <a:ext cx="2666880" cy="47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Inverter (not gate)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A: inp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Q: outp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One of the tw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ransistors is alway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off, except for a sho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period during a swit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1"/>
          <p:cNvSpPr/>
          <p:nvPr/>
        </p:nvSpPr>
        <p:spPr>
          <a:xfrm>
            <a:off x="80496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Mikroprotsessori se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838080" y="762120"/>
            <a:ext cx="7848720" cy="80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Photo from 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Intel CORE i5-3550 processor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: Ivy Bridge 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22 nm process technolog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6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187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89" name="Picture 6" descr=""/>
          <p:cNvPicPr/>
          <p:nvPr/>
        </p:nvPicPr>
        <p:blipFill>
          <a:blip r:embed="rId1"/>
          <a:stretch/>
        </p:blipFill>
        <p:spPr>
          <a:xfrm>
            <a:off x="1581120" y="1905120"/>
            <a:ext cx="5981760" cy="4524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Layers in an integrated circui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Blue: silicon bul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Red: polysilicon ga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Yellow: metal wi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2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193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95" name="Picture 1" descr=""/>
          <p:cNvPicPr/>
          <p:nvPr/>
        </p:nvPicPr>
        <p:blipFill>
          <a:blip r:embed="rId1"/>
          <a:stretch/>
        </p:blipFill>
        <p:spPr>
          <a:xfrm>
            <a:off x="3581280" y="1676520"/>
            <a:ext cx="4118040" cy="4200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Photolitograph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First a mask is made for each lay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The mask is projected to a tiny area on the silicon waf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8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199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1066680" y="2666880"/>
            <a:ext cx="5229360" cy="2362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omponendid (Eck)</a:t>
            </a:r>
            <a:r>
              <a:rPr b="1" lang="ar-SA" sz="2400" spc="-1" strike="noStrike">
                <a:solidFill>
                  <a:srgbClr val="000099"/>
                </a:solidFill>
                <a:latin typeface="Bitstream Vera Sans"/>
                <a:ea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(A and C) or (B and (not C))</a:t>
            </a:r>
            <a:r>
              <a:rPr b="1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05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07" name="Picture 6" descr=""/>
          <p:cNvPicPr/>
          <p:nvPr/>
        </p:nvPicPr>
        <p:blipFill>
          <a:blip r:embed="rId1"/>
          <a:stretch/>
        </p:blipFill>
        <p:spPr>
          <a:xfrm>
            <a:off x="2057400" y="1143000"/>
            <a:ext cx="5562720" cy="5168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omponendid (Eck)</a:t>
            </a:r>
            <a:r>
              <a:rPr b="1" lang="ar-SA" sz="2400" spc="-1" strike="noStrike">
                <a:solidFill>
                  <a:srgbClr val="000099"/>
                </a:solidFill>
                <a:latin typeface="Bitstream Vera Sans"/>
                <a:ea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457200" y="762120"/>
            <a:ext cx="82296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B! Loe ja harjuta nende simulaatoriteg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://math.hws.edu/TMCM/java/labs/xLogicCircuitsLab1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://math.hws.edu/TMCM/java/labs/xLogicCircuitsLab2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Hea alternatiivne simulaato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s://www.kolls.net/gatesim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(A and (not B)) or (B and (not A))</a:t>
            </a:r>
            <a:r>
              <a:rPr b="1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11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13" name="Picture 6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6858000" cy="1689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Neljabitine liitja (four-bit adder)</a:t>
            </a:r>
            <a:r>
              <a:rPr b="1" lang="ar-SA" sz="2400" spc="-1" strike="noStrike">
                <a:solidFill>
                  <a:srgbClr val="000099"/>
                </a:solidFill>
                <a:latin typeface="Bitstream Vera Sans"/>
                <a:ea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heksa pluss kaks sisendjuhet, neli pluss üks väljundjuh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1011       1111       1111       1010       0111       000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0110       0001       1111       0101       1010       001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-----      -----      -----      -----      -----      --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10001      10000      11110      01111      10001      001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6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17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19" name="Picture 6" descr=""/>
          <p:cNvPicPr/>
          <p:nvPr/>
        </p:nvPicPr>
        <p:blipFill>
          <a:blip r:embed="rId1"/>
          <a:stretch/>
        </p:blipFill>
        <p:spPr>
          <a:xfrm>
            <a:off x="1219320" y="3219480"/>
            <a:ext cx="6553080" cy="2813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äl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agasisi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ülitatav tagasiside: trig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2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23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25" name="Picture 6" descr=""/>
          <p:cNvPicPr/>
          <p:nvPr/>
        </p:nvPicPr>
        <p:blipFill>
          <a:blip r:embed="rId1"/>
          <a:stretch/>
        </p:blipFill>
        <p:spPr>
          <a:xfrm>
            <a:off x="2057400" y="1523880"/>
            <a:ext cx="5029200" cy="13176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"/>
          <p:cNvPicPr/>
          <p:nvPr/>
        </p:nvPicPr>
        <p:blipFill>
          <a:blip r:embed="rId2"/>
          <a:stretch/>
        </p:blipFill>
        <p:spPr>
          <a:xfrm>
            <a:off x="1066680" y="4462560"/>
            <a:ext cx="6553440" cy="1347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Ühebitine mäluki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ks sisend- ja üks väljundjuh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9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30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32" name="Picture 6" descr=""/>
          <p:cNvPicPr/>
          <p:nvPr/>
        </p:nvPicPr>
        <p:blipFill>
          <a:blip r:embed="rId1"/>
          <a:stretch/>
        </p:blipFill>
        <p:spPr>
          <a:xfrm>
            <a:off x="1523880" y="1969920"/>
            <a:ext cx="6782040" cy="1960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"/>
          <p:cNvSpPr/>
          <p:nvPr/>
        </p:nvSpPr>
        <p:spPr>
          <a:xfrm>
            <a:off x="838080" y="-436680"/>
            <a:ext cx="77724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Olulis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t 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bstraktsioonide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838080" y="762120"/>
            <a:ext cx="7848720" cy="839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õrgkeeled, komponendid, võrguvärk jms on vajalik ainult selleks, et arendaja saaks rakendusi kiiremini teh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endaja mõtleb abstraktsioonide tasemel, aga lõpuks töötab kõik ikkagi transistoride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bstraktsioonid nö “tilguvad läbi”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: iga abstraktsiooni juures on vaja põhimõtteliselt aru saada, kuidas töötab alumine, vähem abstraktne tase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55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Guarded 1-bitine mäluki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kstra lüliti kiibi sisse või väljalülimisek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5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36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38" name="Picture 6" descr=""/>
          <p:cNvPicPr/>
          <p:nvPr/>
        </p:nvPicPr>
        <p:blipFill>
          <a:blip r:embed="rId1"/>
          <a:stretch/>
        </p:blipFill>
        <p:spPr>
          <a:xfrm>
            <a:off x="1447920" y="1730520"/>
            <a:ext cx="6095880" cy="2346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andom-access memo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1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42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44" name="Picture 6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6858000" cy="4219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cki xCompu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://math.hws.edu/TMCM/java/labs/xComputerLab1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vuti põhiosade (protsessor + mälu) simulatsioon väikese Java programmig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äsusüsteem sarnaneb väga esimeste päris-mikroprotsesoriteg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ihtsama arusaadavuse tõttu kasutab kahebaidiseid mälupesi (16 bitti), mitte ühebaidiseid, nagu harilik arvuti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älu on 1024 pesa (1 K), seega 2 Kbaiti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adressi jaoks kasutusel 10 bitti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simestel koduarvutitel oli ka 4-16 Kbaiti (umbes sama hulk mälu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48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cki xComputer 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lulist: protsessori sees on väike hulk spetsiaal-mälupesi (registrid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hteid saab teha ainult nende registrite vahe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i ole näiteks võimalik liita otse kahte mälus olevat arvu: enne tuleb nad registritesse kopeerida, siis seal liita, siis tulemusregistrist (nn akumulaator) mäll kirjutad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ha, kust mälust loetakse/kirjutatakse näitab ADDR regist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ha, kust lugeda järgmine käsk, näitab PC (program counter) regi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53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äskude täitm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838080" y="762120"/>
            <a:ext cx="7848720" cy="60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aks tsüklit üksteise se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älimine tsükkel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suurendab igal ringil PC-d (program counterit), st igal ringil võetakse täidetav käsk järgmisest mälupesas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10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Sisemine tsükkel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toimub iga käsu sees. Sisemise tsükli jooksul täidetakse käsu sisemisi pisi-samm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10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10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Üks pisi-samm vastab mingile juhtmele voolu peale andmisele, mispeale käivitub vastav loogika-ahel protessoris ja selle tulemus salvestatakse mõnda registriss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10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asina taktsagedu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on see sagedus, kui tihti pisi-samme täidetakse. Iga järgmise pisi-sammu alustamise jaoks on masinas kell, mis annab kindla sagedusega impulsse. Pisi-sammu number saadakse nende impulsside kokkulugemiseg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88000"/>
              </a:lnSpc>
              <a:spcBef>
                <a:spcPts val="349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7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58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xComputer-i põhiregist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X and Y register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hold two sixteen-bit binary numbers that are used as input by the ALU. For example, when the CPU needs to add two numbers, it must put them into the X and Y registers so that the ALU can be used to add them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C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register is the accumulator. It is the CPU's "working memory" for its calculations. When the ALU is  used to compute a result, that result is stored in the AC. For example, if the numbers in the X and Y registers are added, then the answer will appear in the AC. Also, data can be moved from main memory into the AC and from the AC into main memory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FLAG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register stores the "carry-out" bit produced when the ALU adds two binary numbers. Also, when the ALU performs a shift-left or shift-right operation, the extra bit that is shifted off the end of the number is stored in the FLAG register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63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... Registrid 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Text Box 2"/>
          <p:cNvSpPr/>
          <p:nvPr/>
        </p:nvSpPr>
        <p:spPr>
          <a:xfrm>
            <a:off x="838080" y="762120"/>
            <a:ext cx="7848720" cy="54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DDR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register specifies a location in main memory. The CPU often needs to read values from memory or write values to memory. Only one location in memory is accessible at any given time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C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register is the program counter. The PC specifies the location in memory that holds the next instruction to be executed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R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is the instruction register. When the CPU fetches a program instruction from main memory, this is where it puts it. The IR holds that instruction while it is being executed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COUNT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register counts off the steps in a fetch-and-execute cycle. It takes the CPU several steps to fetch and execute an instruction. When COUNT is 1, it does step 1; when COUNT is 2, it does step 2; and so forth.  Remember that as the COUNT register counts 0, 1, 2,..., just one machine language program is being execute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7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68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Hierarhia pistikutest progekeelten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Text Box 2"/>
          <p:cNvSpPr/>
          <p:nvPr/>
        </p:nvSpPr>
        <p:spPr>
          <a:xfrm>
            <a:off x="838080" y="762120"/>
            <a:ext cx="784872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simene: programmeerimismeetod: kaablid ja pistiku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ine: von Neumanni arhitektuur, programm mälus binaarkoodin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01011101 01001011 01010101 11010101 10101001 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ihtsam kirjutada hexas, ntx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4A FC 09 B2 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lmas: Esmane progekeel: assembler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ks masinakäsk: tüüpiliselt üks rida assembleriprogramm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eljas: Harilik progekeel ehk nn kõrgkeel (fortran, basic, c, java, python jne jn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arilikud valemid, if-then-else jne, a la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2*y+sin(y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2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73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1"/>
          <p:cNvSpPr/>
          <p:nvPr/>
        </p:nvSpPr>
        <p:spPr>
          <a:xfrm>
            <a:off x="91440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cki assembl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Text Box 2"/>
          <p:cNvSpPr/>
          <p:nvPr/>
        </p:nvSpPr>
        <p:spPr>
          <a:xfrm>
            <a:off x="83664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is program counts. It starts by putting the number 1 into memory location 12, and then it adds one to the number in that location over and over, forever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7" name="Group 3"/>
          <p:cNvGrpSpPr/>
          <p:nvPr/>
        </p:nvGrpSpPr>
        <p:grpSpPr>
          <a:xfrm>
            <a:off x="914400" y="297000"/>
            <a:ext cx="7769160" cy="311040"/>
            <a:chOff x="914400" y="297000"/>
            <a:chExt cx="7769160" cy="311040"/>
          </a:xfrm>
        </p:grpSpPr>
        <p:sp>
          <p:nvSpPr>
            <p:cNvPr id="278" name="Line 4"/>
            <p:cNvSpPr/>
            <p:nvPr/>
          </p:nvSpPr>
          <p:spPr>
            <a:xfrm>
              <a:off x="914400" y="605160"/>
              <a:ext cx="77659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Line 5"/>
            <p:cNvSpPr/>
            <p:nvPr/>
          </p:nvSpPr>
          <p:spPr>
            <a:xfrm flipV="1">
              <a:off x="8683560" y="2970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0" name="Text Box 6"/>
          <p:cNvSpPr/>
          <p:nvPr/>
        </p:nvSpPr>
        <p:spPr>
          <a:xfrm>
            <a:off x="2378160" y="1901880"/>
            <a:ext cx="6613560" cy="2878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OD-C 1     ; Set Count equal to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TO Cou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oop:  LOD Count   ; Add 1 to Cou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N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TO Cou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JMP Loop    ; Jump back to start of loo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@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ount: data ;  Location to be used for count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Text Box 7"/>
          <p:cNvSpPr/>
          <p:nvPr/>
        </p:nvSpPr>
        <p:spPr>
          <a:xfrm>
            <a:off x="468360" y="1908000"/>
            <a:ext cx="1828800" cy="3759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736560" indent="-27612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LOD-C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612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STO 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612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LOD 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612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IN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612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STO 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612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JMP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1"/>
          <p:cNvSpPr/>
          <p:nvPr/>
        </p:nvSpPr>
        <p:spPr>
          <a:xfrm>
            <a:off x="91440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Reaalse protsessori ehit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Text Box 2"/>
          <p:cNvSpPr/>
          <p:nvPr/>
        </p:nvSpPr>
        <p:spPr>
          <a:xfrm>
            <a:off x="83664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MOS 6502 : enimkasutatud protsessor esimestes mikroarvutites seitsmekümnendatel (Apple I, II, Atari, Commodore jn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https://en.wikipedia.org/wiki/MOS_Technology_650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Reaalse protsessori – MOS 6502  - füüsiline simulaator brauseri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http://www.visual6502.org/JSSim/index.ht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Group 3"/>
          <p:cNvGrpSpPr/>
          <p:nvPr/>
        </p:nvGrpSpPr>
        <p:grpSpPr>
          <a:xfrm>
            <a:off x="914400" y="297000"/>
            <a:ext cx="7769160" cy="311040"/>
            <a:chOff x="914400" y="297000"/>
            <a:chExt cx="7769160" cy="311040"/>
          </a:xfrm>
        </p:grpSpPr>
        <p:sp>
          <p:nvSpPr>
            <p:cNvPr id="285" name="Line 4"/>
            <p:cNvSpPr/>
            <p:nvPr/>
          </p:nvSpPr>
          <p:spPr>
            <a:xfrm>
              <a:off x="914400" y="605160"/>
              <a:ext cx="77659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Line 5"/>
            <p:cNvSpPr/>
            <p:nvPr/>
          </p:nvSpPr>
          <p:spPr>
            <a:xfrm flipV="1">
              <a:off x="8683560" y="2970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Ülevaade loengu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838080" y="762120"/>
            <a:ext cx="7848720" cy="80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Loogikalülituste ehitamine releedest, lampidest või transistoride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Mikroprotsessori füüsiline ehitus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Loogikalülitustest suuremate komponentide tegem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Mälu ehit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Protsessori tööpõhimõte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ja käsu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Optimeeringud reaalsetes protsessori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60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1"/>
          <p:cNvSpPr/>
          <p:nvPr/>
        </p:nvSpPr>
        <p:spPr>
          <a:xfrm>
            <a:off x="91440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Reaalse protsessori käsu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Text Box 2"/>
          <p:cNvSpPr/>
          <p:nvPr/>
        </p:nvSpPr>
        <p:spPr>
          <a:xfrm>
            <a:off x="83664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Reaalse protsessori – MOS 6502  - käskude simulaator brauseri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ttp://skilldrick.github.io/easy6502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9" name="Group 3"/>
          <p:cNvGrpSpPr/>
          <p:nvPr/>
        </p:nvGrpSpPr>
        <p:grpSpPr>
          <a:xfrm>
            <a:off x="914400" y="297000"/>
            <a:ext cx="7769160" cy="311040"/>
            <a:chOff x="914400" y="297000"/>
            <a:chExt cx="7769160" cy="311040"/>
          </a:xfrm>
        </p:grpSpPr>
        <p:sp>
          <p:nvSpPr>
            <p:cNvPr id="290" name="Line 4"/>
            <p:cNvSpPr/>
            <p:nvPr/>
          </p:nvSpPr>
          <p:spPr>
            <a:xfrm>
              <a:off x="914400" y="605160"/>
              <a:ext cx="77659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Line 5"/>
            <p:cNvSpPr/>
            <p:nvPr/>
          </p:nvSpPr>
          <p:spPr>
            <a:xfrm flipV="1">
              <a:off x="8683560" y="2970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1"/>
          <p:cNvSpPr/>
          <p:nvPr/>
        </p:nvSpPr>
        <p:spPr>
          <a:xfrm>
            <a:off x="91440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Väga erinevad arhitektuuritüüb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Text Box 2"/>
          <p:cNvSpPr/>
          <p:nvPr/>
        </p:nvSpPr>
        <p:spPr>
          <a:xfrm>
            <a:off x="83664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CISC ehk complex instruction set: Intel ja AM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RISC ehk reduced instruction set: ARM (mobiili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Graafikaprotsessor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Group 3"/>
          <p:cNvGrpSpPr/>
          <p:nvPr/>
        </p:nvGrpSpPr>
        <p:grpSpPr>
          <a:xfrm>
            <a:off x="914400" y="297000"/>
            <a:ext cx="7769160" cy="311040"/>
            <a:chOff x="914400" y="297000"/>
            <a:chExt cx="7769160" cy="311040"/>
          </a:xfrm>
        </p:grpSpPr>
        <p:sp>
          <p:nvSpPr>
            <p:cNvPr id="295" name="Line 4"/>
            <p:cNvSpPr/>
            <p:nvPr/>
          </p:nvSpPr>
          <p:spPr>
            <a:xfrm>
              <a:off x="914400" y="605160"/>
              <a:ext cx="77659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Line 5"/>
            <p:cNvSpPr/>
            <p:nvPr/>
          </p:nvSpPr>
          <p:spPr>
            <a:xfrm flipV="1">
              <a:off x="8683560" y="2970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Näpuga lülit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400" y="83772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4" name="Group 3"/>
          <p:cNvGrpSpPr/>
          <p:nvPr/>
        </p:nvGrpSpPr>
        <p:grpSpPr>
          <a:xfrm>
            <a:off x="914400" y="298440"/>
            <a:ext cx="7769160" cy="311040"/>
            <a:chOff x="914400" y="298440"/>
            <a:chExt cx="7769160" cy="311040"/>
          </a:xfrm>
        </p:grpSpPr>
        <p:sp>
          <p:nvSpPr>
            <p:cNvPr id="65" name="Line 4"/>
            <p:cNvSpPr/>
            <p:nvPr/>
          </p:nvSpPr>
          <p:spPr>
            <a:xfrm>
              <a:off x="914400" y="604800"/>
              <a:ext cx="77659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Line 5"/>
            <p:cNvSpPr/>
            <p:nvPr/>
          </p:nvSpPr>
          <p:spPr>
            <a:xfrm flipV="1">
              <a:off x="8683560" y="29844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AutoShape 8"/>
          <p:cNvSpPr/>
          <p:nvPr/>
        </p:nvSpPr>
        <p:spPr>
          <a:xfrm>
            <a:off x="1143000" y="838080"/>
            <a:ext cx="4492800" cy="1597320"/>
          </a:xfrm>
          <a:prstGeom prst="roundRect">
            <a:avLst>
              <a:gd name="adj" fmla="val 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Straight Connector 2"/>
          <p:cNvSpPr/>
          <p:nvPr/>
        </p:nvSpPr>
        <p:spPr>
          <a:xfrm>
            <a:off x="1066680" y="1752480"/>
            <a:ext cx="1295640" cy="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Straight Connector 22"/>
          <p:cNvSpPr/>
          <p:nvPr/>
        </p:nvSpPr>
        <p:spPr>
          <a:xfrm>
            <a:off x="3503520" y="1752480"/>
            <a:ext cx="129564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Straight Connector 23"/>
          <p:cNvSpPr/>
          <p:nvPr/>
        </p:nvSpPr>
        <p:spPr>
          <a:xfrm>
            <a:off x="2208240" y="1295280"/>
            <a:ext cx="1295280" cy="457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Oval 4"/>
          <p:cNvSpPr/>
          <p:nvPr/>
        </p:nvSpPr>
        <p:spPr>
          <a:xfrm>
            <a:off x="3389400" y="1636560"/>
            <a:ext cx="191880" cy="1922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AutoShape 8"/>
          <p:cNvSpPr/>
          <p:nvPr/>
        </p:nvSpPr>
        <p:spPr>
          <a:xfrm>
            <a:off x="1295280" y="990720"/>
            <a:ext cx="4492800" cy="1596960"/>
          </a:xfrm>
          <a:prstGeom prst="roundRect">
            <a:avLst>
              <a:gd name="adj" fmla="val 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AutoShape 8"/>
          <p:cNvSpPr/>
          <p:nvPr/>
        </p:nvSpPr>
        <p:spPr>
          <a:xfrm>
            <a:off x="892080" y="3429000"/>
            <a:ext cx="4492800" cy="1596960"/>
          </a:xfrm>
          <a:prstGeom prst="roundRect">
            <a:avLst>
              <a:gd name="adj" fmla="val 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Straight Connector 28"/>
          <p:cNvSpPr/>
          <p:nvPr/>
        </p:nvSpPr>
        <p:spPr>
          <a:xfrm>
            <a:off x="1047600" y="4343400"/>
            <a:ext cx="1295640" cy="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Straight Connector 29"/>
          <p:cNvSpPr/>
          <p:nvPr/>
        </p:nvSpPr>
        <p:spPr>
          <a:xfrm>
            <a:off x="3484440" y="4343400"/>
            <a:ext cx="1295640" cy="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Straight Connector 30"/>
          <p:cNvSpPr/>
          <p:nvPr/>
        </p:nvSpPr>
        <p:spPr>
          <a:xfrm>
            <a:off x="2057400" y="4322880"/>
            <a:ext cx="1427040" cy="2052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Oval 31"/>
          <p:cNvSpPr/>
          <p:nvPr/>
        </p:nvSpPr>
        <p:spPr>
          <a:xfrm>
            <a:off x="3562200" y="4227480"/>
            <a:ext cx="192240" cy="1922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AutoShape 8"/>
          <p:cNvSpPr/>
          <p:nvPr/>
        </p:nvSpPr>
        <p:spPr>
          <a:xfrm>
            <a:off x="1276200" y="3581280"/>
            <a:ext cx="4492800" cy="1597320"/>
          </a:xfrm>
          <a:prstGeom prst="roundRect">
            <a:avLst>
              <a:gd name="adj" fmla="val 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Box 6"/>
          <p:cNvSpPr/>
          <p:nvPr/>
        </p:nvSpPr>
        <p:spPr>
          <a:xfrm>
            <a:off x="5932080" y="1442880"/>
            <a:ext cx="220752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Vool läbi ei lä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TextBox 35"/>
          <p:cNvSpPr/>
          <p:nvPr/>
        </p:nvSpPr>
        <p:spPr>
          <a:xfrm>
            <a:off x="5970240" y="4033800"/>
            <a:ext cx="206280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Vool läheb läb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TextBox 36"/>
          <p:cNvSpPr/>
          <p:nvPr/>
        </p:nvSpPr>
        <p:spPr>
          <a:xfrm>
            <a:off x="885240" y="2305080"/>
            <a:ext cx="1063080" cy="13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Elek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si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sis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TextBox 37"/>
          <p:cNvSpPr/>
          <p:nvPr/>
        </p:nvSpPr>
        <p:spPr>
          <a:xfrm>
            <a:off x="4266720" y="2313000"/>
            <a:ext cx="1063080" cy="13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Elek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si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välja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Down Arrow 7"/>
          <p:cNvSpPr/>
          <p:nvPr/>
        </p:nvSpPr>
        <p:spPr>
          <a:xfrm>
            <a:off x="2619360" y="3444840"/>
            <a:ext cx="471600" cy="685800"/>
          </a:xfrm>
          <a:prstGeom prst="downArrow">
            <a:avLst>
              <a:gd name="adj1" fmla="val 50000"/>
              <a:gd name="adj2" fmla="val 50035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Box 39"/>
          <p:cNvSpPr/>
          <p:nvPr/>
        </p:nvSpPr>
        <p:spPr>
          <a:xfrm>
            <a:off x="2324160" y="2473200"/>
            <a:ext cx="106164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Vaju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näpug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38"/>
          <p:cNvSpPr/>
          <p:nvPr/>
        </p:nvSpPr>
        <p:spPr>
          <a:xfrm>
            <a:off x="2840040" y="4457880"/>
            <a:ext cx="117360" cy="85392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Rectangle 9"/>
          <p:cNvSpPr/>
          <p:nvPr/>
        </p:nvSpPr>
        <p:spPr>
          <a:xfrm>
            <a:off x="2855880" y="1731960"/>
            <a:ext cx="115920" cy="85572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Relee: mootoriga lülit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3400" y="83772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9" name="Group 3"/>
          <p:cNvGrpSpPr/>
          <p:nvPr/>
        </p:nvGrpSpPr>
        <p:grpSpPr>
          <a:xfrm>
            <a:off x="914400" y="298440"/>
            <a:ext cx="7769160" cy="311040"/>
            <a:chOff x="914400" y="298440"/>
            <a:chExt cx="7769160" cy="311040"/>
          </a:xfrm>
        </p:grpSpPr>
        <p:sp>
          <p:nvSpPr>
            <p:cNvPr id="90" name="Line 4"/>
            <p:cNvSpPr/>
            <p:nvPr/>
          </p:nvSpPr>
          <p:spPr>
            <a:xfrm>
              <a:off x="914400" y="604800"/>
              <a:ext cx="77659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Line 5"/>
            <p:cNvSpPr/>
            <p:nvPr/>
          </p:nvSpPr>
          <p:spPr>
            <a:xfrm flipV="1">
              <a:off x="8683560" y="29844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2" name="AutoShape 8"/>
          <p:cNvSpPr/>
          <p:nvPr/>
        </p:nvSpPr>
        <p:spPr>
          <a:xfrm>
            <a:off x="1143000" y="838080"/>
            <a:ext cx="4492800" cy="1597320"/>
          </a:xfrm>
          <a:prstGeom prst="roundRect">
            <a:avLst>
              <a:gd name="adj" fmla="val 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Straight Connector 2"/>
          <p:cNvSpPr/>
          <p:nvPr/>
        </p:nvSpPr>
        <p:spPr>
          <a:xfrm>
            <a:off x="1066680" y="1752480"/>
            <a:ext cx="1295640" cy="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Straight Connector 22"/>
          <p:cNvSpPr/>
          <p:nvPr/>
        </p:nvSpPr>
        <p:spPr>
          <a:xfrm>
            <a:off x="3503520" y="1752480"/>
            <a:ext cx="129564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Straight Connector 23"/>
          <p:cNvSpPr/>
          <p:nvPr/>
        </p:nvSpPr>
        <p:spPr>
          <a:xfrm>
            <a:off x="2208240" y="1295280"/>
            <a:ext cx="1295280" cy="457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Oval 4"/>
          <p:cNvSpPr/>
          <p:nvPr/>
        </p:nvSpPr>
        <p:spPr>
          <a:xfrm>
            <a:off x="3389400" y="1636560"/>
            <a:ext cx="191880" cy="1922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AutoShape 8"/>
          <p:cNvSpPr/>
          <p:nvPr/>
        </p:nvSpPr>
        <p:spPr>
          <a:xfrm>
            <a:off x="1295280" y="990720"/>
            <a:ext cx="4492800" cy="1596960"/>
          </a:xfrm>
          <a:prstGeom prst="roundRect">
            <a:avLst>
              <a:gd name="adj" fmla="val 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AutoShape 8"/>
          <p:cNvSpPr/>
          <p:nvPr/>
        </p:nvSpPr>
        <p:spPr>
          <a:xfrm>
            <a:off x="892080" y="3429000"/>
            <a:ext cx="4492800" cy="1596960"/>
          </a:xfrm>
          <a:prstGeom prst="roundRect">
            <a:avLst>
              <a:gd name="adj" fmla="val 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Straight Connector 28"/>
          <p:cNvSpPr/>
          <p:nvPr/>
        </p:nvSpPr>
        <p:spPr>
          <a:xfrm>
            <a:off x="1047600" y="4343400"/>
            <a:ext cx="1295640" cy="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Straight Connector 29"/>
          <p:cNvSpPr/>
          <p:nvPr/>
        </p:nvSpPr>
        <p:spPr>
          <a:xfrm>
            <a:off x="3484440" y="4343400"/>
            <a:ext cx="1295640" cy="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Straight Connector 30"/>
          <p:cNvSpPr/>
          <p:nvPr/>
        </p:nvSpPr>
        <p:spPr>
          <a:xfrm>
            <a:off x="2057400" y="4322880"/>
            <a:ext cx="1427040" cy="2052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Oval 31"/>
          <p:cNvSpPr/>
          <p:nvPr/>
        </p:nvSpPr>
        <p:spPr>
          <a:xfrm>
            <a:off x="3562200" y="4227480"/>
            <a:ext cx="192240" cy="1922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AutoShape 8"/>
          <p:cNvSpPr/>
          <p:nvPr/>
        </p:nvSpPr>
        <p:spPr>
          <a:xfrm>
            <a:off x="1276200" y="3581280"/>
            <a:ext cx="4492800" cy="1597320"/>
          </a:xfrm>
          <a:prstGeom prst="roundRect">
            <a:avLst>
              <a:gd name="adj" fmla="val 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5932080" y="1442880"/>
            <a:ext cx="220752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Vool läbi ei lä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Box 35"/>
          <p:cNvSpPr/>
          <p:nvPr/>
        </p:nvSpPr>
        <p:spPr>
          <a:xfrm>
            <a:off x="5970240" y="4033800"/>
            <a:ext cx="206280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Vool läheb läb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Freeform 5"/>
          <p:cNvSpPr/>
          <p:nvPr/>
        </p:nvSpPr>
        <p:spPr>
          <a:xfrm>
            <a:off x="2003400" y="1774800"/>
            <a:ext cx="1120680" cy="674640"/>
          </a:xfrm>
          <a:custGeom>
            <a:avLst/>
            <a:gdLst/>
            <a:ahLst/>
            <a:rect l="l" t="t" r="r" b="b"/>
            <a:pathLst>
              <a:path w="1121229" h="674915">
                <a:moveTo>
                  <a:pt x="10886" y="370115"/>
                </a:moveTo>
                <a:cubicBezTo>
                  <a:pt x="137886" y="366486"/>
                  <a:pt x="265010" y="365907"/>
                  <a:pt x="391886" y="359229"/>
                </a:cubicBezTo>
                <a:cubicBezTo>
                  <a:pt x="436954" y="356857"/>
                  <a:pt x="414037" y="345938"/>
                  <a:pt x="446315" y="326572"/>
                </a:cubicBezTo>
                <a:cubicBezTo>
                  <a:pt x="510698" y="287943"/>
                  <a:pt x="447403" y="348965"/>
                  <a:pt x="511629" y="293915"/>
                </a:cubicBezTo>
                <a:cubicBezTo>
                  <a:pt x="527214" y="280557"/>
                  <a:pt x="555172" y="250372"/>
                  <a:pt x="555172" y="250372"/>
                </a:cubicBezTo>
                <a:cubicBezTo>
                  <a:pt x="575986" y="187933"/>
                  <a:pt x="551968" y="243758"/>
                  <a:pt x="587829" y="195943"/>
                </a:cubicBezTo>
                <a:cubicBezTo>
                  <a:pt x="603528" y="175010"/>
                  <a:pt x="612870" y="149131"/>
                  <a:pt x="631372" y="130629"/>
                </a:cubicBezTo>
                <a:lnTo>
                  <a:pt x="685800" y="76200"/>
                </a:lnTo>
                <a:cubicBezTo>
                  <a:pt x="689429" y="65314"/>
                  <a:pt x="687349" y="50212"/>
                  <a:pt x="696686" y="43543"/>
                </a:cubicBezTo>
                <a:cubicBezTo>
                  <a:pt x="715360" y="30204"/>
                  <a:pt x="740229" y="29029"/>
                  <a:pt x="762000" y="21772"/>
                </a:cubicBezTo>
                <a:cubicBezTo>
                  <a:pt x="832681" y="-1788"/>
                  <a:pt x="783227" y="11925"/>
                  <a:pt x="914400" y="0"/>
                </a:cubicBezTo>
                <a:cubicBezTo>
                  <a:pt x="945446" y="3450"/>
                  <a:pt x="1008554" y="3534"/>
                  <a:pt x="1045029" y="21772"/>
                </a:cubicBezTo>
                <a:cubicBezTo>
                  <a:pt x="1056731" y="27623"/>
                  <a:pt x="1066800" y="36286"/>
                  <a:pt x="1077686" y="43543"/>
                </a:cubicBezTo>
                <a:cubicBezTo>
                  <a:pt x="1074057" y="58057"/>
                  <a:pt x="1077379" y="76507"/>
                  <a:pt x="1066800" y="87086"/>
                </a:cubicBezTo>
                <a:cubicBezTo>
                  <a:pt x="1056221" y="97665"/>
                  <a:pt x="1038103" y="96116"/>
                  <a:pt x="1023258" y="97972"/>
                </a:cubicBezTo>
                <a:cubicBezTo>
                  <a:pt x="979901" y="103392"/>
                  <a:pt x="936172" y="105229"/>
                  <a:pt x="892629" y="108858"/>
                </a:cubicBezTo>
                <a:cubicBezTo>
                  <a:pt x="859972" y="105229"/>
                  <a:pt x="824859" y="110916"/>
                  <a:pt x="794658" y="97972"/>
                </a:cubicBezTo>
                <a:cubicBezTo>
                  <a:pt x="785225" y="93929"/>
                  <a:pt x="806177" y="76688"/>
                  <a:pt x="816429" y="76200"/>
                </a:cubicBezTo>
                <a:lnTo>
                  <a:pt x="1023258" y="87086"/>
                </a:lnTo>
                <a:cubicBezTo>
                  <a:pt x="1034144" y="90715"/>
                  <a:pt x="1046955" y="90804"/>
                  <a:pt x="1055915" y="97972"/>
                </a:cubicBezTo>
                <a:cubicBezTo>
                  <a:pt x="1075098" y="113319"/>
                  <a:pt x="1081401" y="141774"/>
                  <a:pt x="1088572" y="163286"/>
                </a:cubicBezTo>
                <a:cubicBezTo>
                  <a:pt x="1081315" y="170543"/>
                  <a:pt x="1075980" y="180468"/>
                  <a:pt x="1066800" y="185058"/>
                </a:cubicBezTo>
                <a:cubicBezTo>
                  <a:pt x="1011667" y="212625"/>
                  <a:pt x="965086" y="210874"/>
                  <a:pt x="903515" y="217715"/>
                </a:cubicBezTo>
                <a:cubicBezTo>
                  <a:pt x="859972" y="214086"/>
                  <a:pt x="811967" y="226370"/>
                  <a:pt x="772886" y="206829"/>
                </a:cubicBezTo>
                <a:cubicBezTo>
                  <a:pt x="758372" y="199572"/>
                  <a:pt x="778556" y="165299"/>
                  <a:pt x="794658" y="163286"/>
                </a:cubicBezTo>
                <a:cubicBezTo>
                  <a:pt x="873952" y="153374"/>
                  <a:pt x="954315" y="170543"/>
                  <a:pt x="1034143" y="174172"/>
                </a:cubicBezTo>
                <a:cubicBezTo>
                  <a:pt x="1045029" y="177801"/>
                  <a:pt x="1056961" y="179154"/>
                  <a:pt x="1066800" y="185058"/>
                </a:cubicBezTo>
                <a:cubicBezTo>
                  <a:pt x="1075601" y="190338"/>
                  <a:pt x="1080558" y="200418"/>
                  <a:pt x="1088572" y="206829"/>
                </a:cubicBezTo>
                <a:cubicBezTo>
                  <a:pt x="1098788" y="215002"/>
                  <a:pt x="1110343" y="221343"/>
                  <a:pt x="1121229" y="228600"/>
                </a:cubicBezTo>
                <a:cubicBezTo>
                  <a:pt x="1117600" y="239486"/>
                  <a:pt x="1117511" y="252298"/>
                  <a:pt x="1110343" y="261258"/>
                </a:cubicBezTo>
                <a:cubicBezTo>
                  <a:pt x="1102170" y="271474"/>
                  <a:pt x="1089711" y="277875"/>
                  <a:pt x="1077686" y="283029"/>
                </a:cubicBezTo>
                <a:cubicBezTo>
                  <a:pt x="1028817" y="303973"/>
                  <a:pt x="875537" y="304488"/>
                  <a:pt x="870858" y="304800"/>
                </a:cubicBezTo>
                <a:cubicBezTo>
                  <a:pt x="845458" y="301172"/>
                  <a:pt x="817607" y="305389"/>
                  <a:pt x="794658" y="293915"/>
                </a:cubicBezTo>
                <a:cubicBezTo>
                  <a:pt x="784395" y="288784"/>
                  <a:pt x="815840" y="283029"/>
                  <a:pt x="827315" y="283029"/>
                </a:cubicBezTo>
                <a:cubicBezTo>
                  <a:pt x="892730" y="283029"/>
                  <a:pt x="957944" y="290286"/>
                  <a:pt x="1023258" y="293915"/>
                </a:cubicBezTo>
                <a:cubicBezTo>
                  <a:pt x="1041401" y="297543"/>
                  <a:pt x="1059736" y="300313"/>
                  <a:pt x="1077686" y="304800"/>
                </a:cubicBezTo>
                <a:cubicBezTo>
                  <a:pt x="1088818" y="307583"/>
                  <a:pt x="1105211" y="305423"/>
                  <a:pt x="1110343" y="315686"/>
                </a:cubicBezTo>
                <a:cubicBezTo>
                  <a:pt x="1115475" y="325949"/>
                  <a:pt x="1105361" y="338504"/>
                  <a:pt x="1099458" y="348343"/>
                </a:cubicBezTo>
                <a:cubicBezTo>
                  <a:pt x="1080458" y="380009"/>
                  <a:pt x="1044939" y="381030"/>
                  <a:pt x="1012372" y="391886"/>
                </a:cubicBezTo>
                <a:lnTo>
                  <a:pt x="979715" y="402772"/>
                </a:lnTo>
                <a:cubicBezTo>
                  <a:pt x="907143" y="399143"/>
                  <a:pt x="833104" y="406855"/>
                  <a:pt x="762000" y="391886"/>
                </a:cubicBezTo>
                <a:cubicBezTo>
                  <a:pt x="750772" y="389522"/>
                  <a:pt x="764772" y="367343"/>
                  <a:pt x="772886" y="359229"/>
                </a:cubicBezTo>
                <a:cubicBezTo>
                  <a:pt x="781000" y="351115"/>
                  <a:pt x="794657" y="351972"/>
                  <a:pt x="805543" y="348343"/>
                </a:cubicBezTo>
                <a:cubicBezTo>
                  <a:pt x="889000" y="351972"/>
                  <a:pt x="972929" y="349654"/>
                  <a:pt x="1055915" y="359229"/>
                </a:cubicBezTo>
                <a:cubicBezTo>
                  <a:pt x="1068912" y="360729"/>
                  <a:pt x="1080399" y="370784"/>
                  <a:pt x="1088572" y="381000"/>
                </a:cubicBezTo>
                <a:cubicBezTo>
                  <a:pt x="1095740" y="389960"/>
                  <a:pt x="1095829" y="402772"/>
                  <a:pt x="1099458" y="413658"/>
                </a:cubicBezTo>
                <a:cubicBezTo>
                  <a:pt x="1095829" y="428172"/>
                  <a:pt x="1095263" y="443819"/>
                  <a:pt x="1088572" y="457200"/>
                </a:cubicBezTo>
                <a:cubicBezTo>
                  <a:pt x="1083982" y="466380"/>
                  <a:pt x="1075601" y="473691"/>
                  <a:pt x="1066800" y="478972"/>
                </a:cubicBezTo>
                <a:cubicBezTo>
                  <a:pt x="1040303" y="494870"/>
                  <a:pt x="959068" y="499242"/>
                  <a:pt x="947058" y="500743"/>
                </a:cubicBezTo>
                <a:cubicBezTo>
                  <a:pt x="878115" y="497115"/>
                  <a:pt x="807623" y="504835"/>
                  <a:pt x="740229" y="489858"/>
                </a:cubicBezTo>
                <a:cubicBezTo>
                  <a:pt x="729027" y="487369"/>
                  <a:pt x="739664" y="457939"/>
                  <a:pt x="751115" y="457200"/>
                </a:cubicBezTo>
                <a:cubicBezTo>
                  <a:pt x="859806" y="450187"/>
                  <a:pt x="968829" y="464457"/>
                  <a:pt x="1077686" y="468086"/>
                </a:cubicBezTo>
                <a:cubicBezTo>
                  <a:pt x="1084943" y="478972"/>
                  <a:pt x="1099458" y="487660"/>
                  <a:pt x="1099458" y="500743"/>
                </a:cubicBezTo>
                <a:cubicBezTo>
                  <a:pt x="1099458" y="550386"/>
                  <a:pt x="1082011" y="569338"/>
                  <a:pt x="1045029" y="587829"/>
                </a:cubicBezTo>
                <a:cubicBezTo>
                  <a:pt x="1034766" y="592961"/>
                  <a:pt x="1023258" y="595086"/>
                  <a:pt x="1012372" y="598715"/>
                </a:cubicBezTo>
                <a:cubicBezTo>
                  <a:pt x="921658" y="595086"/>
                  <a:pt x="830183" y="600095"/>
                  <a:pt x="740229" y="587829"/>
                </a:cubicBezTo>
                <a:cubicBezTo>
                  <a:pt x="727266" y="586061"/>
                  <a:pt x="759815" y="566626"/>
                  <a:pt x="772886" y="566058"/>
                </a:cubicBezTo>
                <a:lnTo>
                  <a:pt x="990600" y="576943"/>
                </a:lnTo>
                <a:cubicBezTo>
                  <a:pt x="997857" y="584200"/>
                  <a:pt x="1007091" y="589914"/>
                  <a:pt x="1012372" y="598715"/>
                </a:cubicBezTo>
                <a:cubicBezTo>
                  <a:pt x="1031664" y="630867"/>
                  <a:pt x="1021250" y="639404"/>
                  <a:pt x="1012372" y="674915"/>
                </a:cubicBezTo>
                <a:cubicBezTo>
                  <a:pt x="878115" y="671286"/>
                  <a:pt x="743581" y="673376"/>
                  <a:pt x="609600" y="664029"/>
                </a:cubicBezTo>
                <a:cubicBezTo>
                  <a:pt x="609596" y="664029"/>
                  <a:pt x="527959" y="636816"/>
                  <a:pt x="511629" y="631372"/>
                </a:cubicBezTo>
                <a:cubicBezTo>
                  <a:pt x="500743" y="627743"/>
                  <a:pt x="490421" y="621249"/>
                  <a:pt x="478972" y="620486"/>
                </a:cubicBezTo>
                <a:cubicBezTo>
                  <a:pt x="210690" y="602600"/>
                  <a:pt x="370235" y="609600"/>
                  <a:pt x="0" y="609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Freeform 10"/>
          <p:cNvSpPr/>
          <p:nvPr/>
        </p:nvSpPr>
        <p:spPr>
          <a:xfrm>
            <a:off x="2709720" y="762120"/>
            <a:ext cx="406440" cy="784080"/>
          </a:xfrm>
          <a:custGeom>
            <a:avLst/>
            <a:gdLst/>
            <a:ahLst/>
            <a:rect l="l" t="t" r="r" b="b"/>
            <a:pathLst>
              <a:path w="405731" h="783771">
                <a:moveTo>
                  <a:pt x="174171" y="783771"/>
                </a:moveTo>
                <a:cubicBezTo>
                  <a:pt x="177787" y="758460"/>
                  <a:pt x="198214" y="670308"/>
                  <a:pt x="174171" y="642257"/>
                </a:cubicBezTo>
                <a:cubicBezTo>
                  <a:pt x="162130" y="628209"/>
                  <a:pt x="137593" y="636239"/>
                  <a:pt x="119743" y="631371"/>
                </a:cubicBezTo>
                <a:cubicBezTo>
                  <a:pt x="97602" y="625333"/>
                  <a:pt x="54428" y="609600"/>
                  <a:pt x="54428" y="609600"/>
                </a:cubicBezTo>
                <a:cubicBezTo>
                  <a:pt x="170542" y="605971"/>
                  <a:pt x="287217" y="610668"/>
                  <a:pt x="402771" y="598714"/>
                </a:cubicBezTo>
                <a:cubicBezTo>
                  <a:pt x="415784" y="597368"/>
                  <a:pt x="382409" y="581414"/>
                  <a:pt x="370114" y="576943"/>
                </a:cubicBezTo>
                <a:cubicBezTo>
                  <a:pt x="324205" y="560249"/>
                  <a:pt x="266375" y="552396"/>
                  <a:pt x="217714" y="544286"/>
                </a:cubicBezTo>
                <a:cubicBezTo>
                  <a:pt x="118638" y="511259"/>
                  <a:pt x="275105" y="561917"/>
                  <a:pt x="130628" y="522514"/>
                </a:cubicBezTo>
                <a:cubicBezTo>
                  <a:pt x="-4913" y="485549"/>
                  <a:pt x="135354" y="512417"/>
                  <a:pt x="0" y="489857"/>
                </a:cubicBezTo>
                <a:cubicBezTo>
                  <a:pt x="88712" y="480000"/>
                  <a:pt x="86516" y="482044"/>
                  <a:pt x="163286" y="468086"/>
                </a:cubicBezTo>
                <a:cubicBezTo>
                  <a:pt x="181490" y="464776"/>
                  <a:pt x="199304" y="459041"/>
                  <a:pt x="217714" y="457200"/>
                </a:cubicBezTo>
                <a:cubicBezTo>
                  <a:pt x="271993" y="451772"/>
                  <a:pt x="326571" y="449943"/>
                  <a:pt x="381000" y="446314"/>
                </a:cubicBezTo>
                <a:cubicBezTo>
                  <a:pt x="301493" y="419812"/>
                  <a:pt x="337950" y="430109"/>
                  <a:pt x="272143" y="413657"/>
                </a:cubicBezTo>
                <a:cubicBezTo>
                  <a:pt x="261257" y="406400"/>
                  <a:pt x="251188" y="397737"/>
                  <a:pt x="239486" y="391886"/>
                </a:cubicBezTo>
                <a:cubicBezTo>
                  <a:pt x="229223" y="386754"/>
                  <a:pt x="217861" y="384152"/>
                  <a:pt x="206828" y="381000"/>
                </a:cubicBezTo>
                <a:cubicBezTo>
                  <a:pt x="128591" y="358646"/>
                  <a:pt x="198665" y="381681"/>
                  <a:pt x="108857" y="359229"/>
                </a:cubicBezTo>
                <a:cubicBezTo>
                  <a:pt x="97725" y="356446"/>
                  <a:pt x="87086" y="351972"/>
                  <a:pt x="76200" y="348343"/>
                </a:cubicBezTo>
                <a:cubicBezTo>
                  <a:pt x="210447" y="303593"/>
                  <a:pt x="118594" y="327717"/>
                  <a:pt x="359228" y="315686"/>
                </a:cubicBezTo>
                <a:cubicBezTo>
                  <a:pt x="319724" y="276180"/>
                  <a:pt x="352153" y="300174"/>
                  <a:pt x="272143" y="283029"/>
                </a:cubicBezTo>
                <a:cubicBezTo>
                  <a:pt x="242885" y="276759"/>
                  <a:pt x="185057" y="261257"/>
                  <a:pt x="185057" y="261257"/>
                </a:cubicBezTo>
                <a:cubicBezTo>
                  <a:pt x="181428" y="250371"/>
                  <a:pt x="174171" y="240075"/>
                  <a:pt x="174171" y="228600"/>
                </a:cubicBezTo>
                <a:cubicBezTo>
                  <a:pt x="174171" y="159562"/>
                  <a:pt x="181773" y="90731"/>
                  <a:pt x="185057" y="21771"/>
                </a:cubicBezTo>
                <a:cubicBezTo>
                  <a:pt x="185402" y="14522"/>
                  <a:pt x="185057" y="7257"/>
                  <a:pt x="18505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Box 33"/>
          <p:cNvSpPr/>
          <p:nvPr/>
        </p:nvSpPr>
        <p:spPr>
          <a:xfrm>
            <a:off x="3185280" y="750960"/>
            <a:ext cx="169704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Vedru hoia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lah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Freeform 34"/>
          <p:cNvSpPr/>
          <p:nvPr/>
        </p:nvSpPr>
        <p:spPr>
          <a:xfrm>
            <a:off x="1992240" y="4503600"/>
            <a:ext cx="1120680" cy="676440"/>
          </a:xfrm>
          <a:custGeom>
            <a:avLst/>
            <a:gdLst/>
            <a:ahLst/>
            <a:rect l="l" t="t" r="r" b="b"/>
            <a:pathLst>
              <a:path w="1121229" h="674915">
                <a:moveTo>
                  <a:pt x="10886" y="370115"/>
                </a:moveTo>
                <a:cubicBezTo>
                  <a:pt x="137886" y="366486"/>
                  <a:pt x="265010" y="365907"/>
                  <a:pt x="391886" y="359229"/>
                </a:cubicBezTo>
                <a:cubicBezTo>
                  <a:pt x="436954" y="356857"/>
                  <a:pt x="414037" y="345938"/>
                  <a:pt x="446315" y="326572"/>
                </a:cubicBezTo>
                <a:cubicBezTo>
                  <a:pt x="510698" y="287943"/>
                  <a:pt x="447403" y="348965"/>
                  <a:pt x="511629" y="293915"/>
                </a:cubicBezTo>
                <a:cubicBezTo>
                  <a:pt x="527214" y="280557"/>
                  <a:pt x="555172" y="250372"/>
                  <a:pt x="555172" y="250372"/>
                </a:cubicBezTo>
                <a:cubicBezTo>
                  <a:pt x="575986" y="187933"/>
                  <a:pt x="551968" y="243758"/>
                  <a:pt x="587829" y="195943"/>
                </a:cubicBezTo>
                <a:cubicBezTo>
                  <a:pt x="603528" y="175010"/>
                  <a:pt x="612870" y="149131"/>
                  <a:pt x="631372" y="130629"/>
                </a:cubicBezTo>
                <a:lnTo>
                  <a:pt x="685800" y="76200"/>
                </a:lnTo>
                <a:cubicBezTo>
                  <a:pt x="689429" y="65314"/>
                  <a:pt x="687349" y="50212"/>
                  <a:pt x="696686" y="43543"/>
                </a:cubicBezTo>
                <a:cubicBezTo>
                  <a:pt x="715360" y="30204"/>
                  <a:pt x="740229" y="29029"/>
                  <a:pt x="762000" y="21772"/>
                </a:cubicBezTo>
                <a:cubicBezTo>
                  <a:pt x="832681" y="-1788"/>
                  <a:pt x="783227" y="11925"/>
                  <a:pt x="914400" y="0"/>
                </a:cubicBezTo>
                <a:cubicBezTo>
                  <a:pt x="945446" y="3450"/>
                  <a:pt x="1008554" y="3534"/>
                  <a:pt x="1045029" y="21772"/>
                </a:cubicBezTo>
                <a:cubicBezTo>
                  <a:pt x="1056731" y="27623"/>
                  <a:pt x="1066800" y="36286"/>
                  <a:pt x="1077686" y="43543"/>
                </a:cubicBezTo>
                <a:cubicBezTo>
                  <a:pt x="1074057" y="58057"/>
                  <a:pt x="1077379" y="76507"/>
                  <a:pt x="1066800" y="87086"/>
                </a:cubicBezTo>
                <a:cubicBezTo>
                  <a:pt x="1056221" y="97665"/>
                  <a:pt x="1038103" y="96116"/>
                  <a:pt x="1023258" y="97972"/>
                </a:cubicBezTo>
                <a:cubicBezTo>
                  <a:pt x="979901" y="103392"/>
                  <a:pt x="936172" y="105229"/>
                  <a:pt x="892629" y="108858"/>
                </a:cubicBezTo>
                <a:cubicBezTo>
                  <a:pt x="859972" y="105229"/>
                  <a:pt x="824859" y="110916"/>
                  <a:pt x="794658" y="97972"/>
                </a:cubicBezTo>
                <a:cubicBezTo>
                  <a:pt x="785225" y="93929"/>
                  <a:pt x="806177" y="76688"/>
                  <a:pt x="816429" y="76200"/>
                </a:cubicBezTo>
                <a:lnTo>
                  <a:pt x="1023258" y="87086"/>
                </a:lnTo>
                <a:cubicBezTo>
                  <a:pt x="1034144" y="90715"/>
                  <a:pt x="1046955" y="90804"/>
                  <a:pt x="1055915" y="97972"/>
                </a:cubicBezTo>
                <a:cubicBezTo>
                  <a:pt x="1075098" y="113319"/>
                  <a:pt x="1081401" y="141774"/>
                  <a:pt x="1088572" y="163286"/>
                </a:cubicBezTo>
                <a:cubicBezTo>
                  <a:pt x="1081315" y="170543"/>
                  <a:pt x="1075980" y="180468"/>
                  <a:pt x="1066800" y="185058"/>
                </a:cubicBezTo>
                <a:cubicBezTo>
                  <a:pt x="1011667" y="212625"/>
                  <a:pt x="965086" y="210874"/>
                  <a:pt x="903515" y="217715"/>
                </a:cubicBezTo>
                <a:cubicBezTo>
                  <a:pt x="859972" y="214086"/>
                  <a:pt x="811967" y="226370"/>
                  <a:pt x="772886" y="206829"/>
                </a:cubicBezTo>
                <a:cubicBezTo>
                  <a:pt x="758372" y="199572"/>
                  <a:pt x="778556" y="165299"/>
                  <a:pt x="794658" y="163286"/>
                </a:cubicBezTo>
                <a:cubicBezTo>
                  <a:pt x="873952" y="153374"/>
                  <a:pt x="954315" y="170543"/>
                  <a:pt x="1034143" y="174172"/>
                </a:cubicBezTo>
                <a:cubicBezTo>
                  <a:pt x="1045029" y="177801"/>
                  <a:pt x="1056961" y="179154"/>
                  <a:pt x="1066800" y="185058"/>
                </a:cubicBezTo>
                <a:cubicBezTo>
                  <a:pt x="1075601" y="190338"/>
                  <a:pt x="1080558" y="200418"/>
                  <a:pt x="1088572" y="206829"/>
                </a:cubicBezTo>
                <a:cubicBezTo>
                  <a:pt x="1098788" y="215002"/>
                  <a:pt x="1110343" y="221343"/>
                  <a:pt x="1121229" y="228600"/>
                </a:cubicBezTo>
                <a:cubicBezTo>
                  <a:pt x="1117600" y="239486"/>
                  <a:pt x="1117511" y="252298"/>
                  <a:pt x="1110343" y="261258"/>
                </a:cubicBezTo>
                <a:cubicBezTo>
                  <a:pt x="1102170" y="271474"/>
                  <a:pt x="1089711" y="277875"/>
                  <a:pt x="1077686" y="283029"/>
                </a:cubicBezTo>
                <a:cubicBezTo>
                  <a:pt x="1028817" y="303973"/>
                  <a:pt x="875537" y="304488"/>
                  <a:pt x="870858" y="304800"/>
                </a:cubicBezTo>
                <a:cubicBezTo>
                  <a:pt x="845458" y="301172"/>
                  <a:pt x="817607" y="305389"/>
                  <a:pt x="794658" y="293915"/>
                </a:cubicBezTo>
                <a:cubicBezTo>
                  <a:pt x="784395" y="288784"/>
                  <a:pt x="815840" y="283029"/>
                  <a:pt x="827315" y="283029"/>
                </a:cubicBezTo>
                <a:cubicBezTo>
                  <a:pt x="892730" y="283029"/>
                  <a:pt x="957944" y="290286"/>
                  <a:pt x="1023258" y="293915"/>
                </a:cubicBezTo>
                <a:cubicBezTo>
                  <a:pt x="1041401" y="297543"/>
                  <a:pt x="1059736" y="300313"/>
                  <a:pt x="1077686" y="304800"/>
                </a:cubicBezTo>
                <a:cubicBezTo>
                  <a:pt x="1088818" y="307583"/>
                  <a:pt x="1105211" y="305423"/>
                  <a:pt x="1110343" y="315686"/>
                </a:cubicBezTo>
                <a:cubicBezTo>
                  <a:pt x="1115475" y="325949"/>
                  <a:pt x="1105361" y="338504"/>
                  <a:pt x="1099458" y="348343"/>
                </a:cubicBezTo>
                <a:cubicBezTo>
                  <a:pt x="1080458" y="380009"/>
                  <a:pt x="1044939" y="381030"/>
                  <a:pt x="1012372" y="391886"/>
                </a:cubicBezTo>
                <a:lnTo>
                  <a:pt x="979715" y="402772"/>
                </a:lnTo>
                <a:cubicBezTo>
                  <a:pt x="907143" y="399143"/>
                  <a:pt x="833104" y="406855"/>
                  <a:pt x="762000" y="391886"/>
                </a:cubicBezTo>
                <a:cubicBezTo>
                  <a:pt x="750772" y="389522"/>
                  <a:pt x="764772" y="367343"/>
                  <a:pt x="772886" y="359229"/>
                </a:cubicBezTo>
                <a:cubicBezTo>
                  <a:pt x="781000" y="351115"/>
                  <a:pt x="794657" y="351972"/>
                  <a:pt x="805543" y="348343"/>
                </a:cubicBezTo>
                <a:cubicBezTo>
                  <a:pt x="889000" y="351972"/>
                  <a:pt x="972929" y="349654"/>
                  <a:pt x="1055915" y="359229"/>
                </a:cubicBezTo>
                <a:cubicBezTo>
                  <a:pt x="1068912" y="360729"/>
                  <a:pt x="1080399" y="370784"/>
                  <a:pt x="1088572" y="381000"/>
                </a:cubicBezTo>
                <a:cubicBezTo>
                  <a:pt x="1095740" y="389960"/>
                  <a:pt x="1095829" y="402772"/>
                  <a:pt x="1099458" y="413658"/>
                </a:cubicBezTo>
                <a:cubicBezTo>
                  <a:pt x="1095829" y="428172"/>
                  <a:pt x="1095263" y="443819"/>
                  <a:pt x="1088572" y="457200"/>
                </a:cubicBezTo>
                <a:cubicBezTo>
                  <a:pt x="1083982" y="466380"/>
                  <a:pt x="1075601" y="473691"/>
                  <a:pt x="1066800" y="478972"/>
                </a:cubicBezTo>
                <a:cubicBezTo>
                  <a:pt x="1040303" y="494870"/>
                  <a:pt x="959068" y="499242"/>
                  <a:pt x="947058" y="500743"/>
                </a:cubicBezTo>
                <a:cubicBezTo>
                  <a:pt x="878115" y="497115"/>
                  <a:pt x="807623" y="504835"/>
                  <a:pt x="740229" y="489858"/>
                </a:cubicBezTo>
                <a:cubicBezTo>
                  <a:pt x="729027" y="487369"/>
                  <a:pt x="739664" y="457939"/>
                  <a:pt x="751115" y="457200"/>
                </a:cubicBezTo>
                <a:cubicBezTo>
                  <a:pt x="859806" y="450187"/>
                  <a:pt x="968829" y="464457"/>
                  <a:pt x="1077686" y="468086"/>
                </a:cubicBezTo>
                <a:cubicBezTo>
                  <a:pt x="1084943" y="478972"/>
                  <a:pt x="1099458" y="487660"/>
                  <a:pt x="1099458" y="500743"/>
                </a:cubicBezTo>
                <a:cubicBezTo>
                  <a:pt x="1099458" y="550386"/>
                  <a:pt x="1082011" y="569338"/>
                  <a:pt x="1045029" y="587829"/>
                </a:cubicBezTo>
                <a:cubicBezTo>
                  <a:pt x="1034766" y="592961"/>
                  <a:pt x="1023258" y="595086"/>
                  <a:pt x="1012372" y="598715"/>
                </a:cubicBezTo>
                <a:cubicBezTo>
                  <a:pt x="921658" y="595086"/>
                  <a:pt x="830183" y="600095"/>
                  <a:pt x="740229" y="587829"/>
                </a:cubicBezTo>
                <a:cubicBezTo>
                  <a:pt x="727266" y="586061"/>
                  <a:pt x="759815" y="566626"/>
                  <a:pt x="772886" y="566058"/>
                </a:cubicBezTo>
                <a:lnTo>
                  <a:pt x="990600" y="576943"/>
                </a:lnTo>
                <a:cubicBezTo>
                  <a:pt x="997857" y="584200"/>
                  <a:pt x="1007091" y="589914"/>
                  <a:pt x="1012372" y="598715"/>
                </a:cubicBezTo>
                <a:cubicBezTo>
                  <a:pt x="1031664" y="630867"/>
                  <a:pt x="1021250" y="639404"/>
                  <a:pt x="1012372" y="674915"/>
                </a:cubicBezTo>
                <a:cubicBezTo>
                  <a:pt x="878115" y="671286"/>
                  <a:pt x="743581" y="673376"/>
                  <a:pt x="609600" y="664029"/>
                </a:cubicBezTo>
                <a:cubicBezTo>
                  <a:pt x="609596" y="664029"/>
                  <a:pt x="527959" y="636816"/>
                  <a:pt x="511629" y="631372"/>
                </a:cubicBezTo>
                <a:cubicBezTo>
                  <a:pt x="500743" y="627743"/>
                  <a:pt x="490421" y="621249"/>
                  <a:pt x="478972" y="620486"/>
                </a:cubicBezTo>
                <a:cubicBezTo>
                  <a:pt x="210690" y="602600"/>
                  <a:pt x="370235" y="609600"/>
                  <a:pt x="0" y="609600"/>
                </a:cubicBezTo>
              </a:path>
            </a:pathLst>
          </a:custGeom>
          <a:noFill/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Freeform 11"/>
          <p:cNvSpPr/>
          <p:nvPr/>
        </p:nvSpPr>
        <p:spPr>
          <a:xfrm>
            <a:off x="2676600" y="3249720"/>
            <a:ext cx="395280" cy="1071360"/>
          </a:xfrm>
          <a:custGeom>
            <a:avLst/>
            <a:gdLst/>
            <a:ahLst/>
            <a:rect l="l" t="t" r="r" b="b"/>
            <a:pathLst>
              <a:path w="396109" h="1072473">
                <a:moveTo>
                  <a:pt x="186546" y="1072473"/>
                </a:moveTo>
                <a:cubicBezTo>
                  <a:pt x="182917" y="1003530"/>
                  <a:pt x="220373" y="918247"/>
                  <a:pt x="175660" y="865644"/>
                </a:cubicBezTo>
                <a:cubicBezTo>
                  <a:pt x="126996" y="808392"/>
                  <a:pt x="-80712" y="882157"/>
                  <a:pt x="34146" y="843873"/>
                </a:cubicBezTo>
                <a:cubicBezTo>
                  <a:pt x="115234" y="789813"/>
                  <a:pt x="15636" y="859297"/>
                  <a:pt x="99460" y="789444"/>
                </a:cubicBezTo>
                <a:cubicBezTo>
                  <a:pt x="109511" y="781069"/>
                  <a:pt x="121901" y="775846"/>
                  <a:pt x="132117" y="767673"/>
                </a:cubicBezTo>
                <a:cubicBezTo>
                  <a:pt x="140131" y="761262"/>
                  <a:pt x="145088" y="751182"/>
                  <a:pt x="153889" y="745901"/>
                </a:cubicBezTo>
                <a:cubicBezTo>
                  <a:pt x="163728" y="739997"/>
                  <a:pt x="175802" y="739044"/>
                  <a:pt x="186546" y="735015"/>
                </a:cubicBezTo>
                <a:cubicBezTo>
                  <a:pt x="204842" y="728154"/>
                  <a:pt x="223820" y="722601"/>
                  <a:pt x="240974" y="713244"/>
                </a:cubicBezTo>
                <a:cubicBezTo>
                  <a:pt x="350641" y="653426"/>
                  <a:pt x="262663" y="680608"/>
                  <a:pt x="349832" y="658815"/>
                </a:cubicBezTo>
                <a:cubicBezTo>
                  <a:pt x="360718" y="651558"/>
                  <a:pt x="374316" y="647260"/>
                  <a:pt x="382489" y="637044"/>
                </a:cubicBezTo>
                <a:cubicBezTo>
                  <a:pt x="389657" y="628084"/>
                  <a:pt x="401488" y="612501"/>
                  <a:pt x="393374" y="604387"/>
                </a:cubicBezTo>
                <a:cubicBezTo>
                  <a:pt x="373449" y="584462"/>
                  <a:pt x="272818" y="574724"/>
                  <a:pt x="251860" y="571730"/>
                </a:cubicBezTo>
                <a:cubicBezTo>
                  <a:pt x="237346" y="564473"/>
                  <a:pt x="222406" y="558009"/>
                  <a:pt x="208317" y="549958"/>
                </a:cubicBezTo>
                <a:cubicBezTo>
                  <a:pt x="196958" y="543467"/>
                  <a:pt x="187362" y="534038"/>
                  <a:pt x="175660" y="528187"/>
                </a:cubicBezTo>
                <a:cubicBezTo>
                  <a:pt x="165397" y="523055"/>
                  <a:pt x="153266" y="522433"/>
                  <a:pt x="143003" y="517301"/>
                </a:cubicBezTo>
                <a:cubicBezTo>
                  <a:pt x="98328" y="494963"/>
                  <a:pt x="122326" y="500759"/>
                  <a:pt x="88574" y="473758"/>
                </a:cubicBezTo>
                <a:cubicBezTo>
                  <a:pt x="19919" y="418834"/>
                  <a:pt x="86709" y="482780"/>
                  <a:pt x="34146" y="430215"/>
                </a:cubicBezTo>
                <a:cubicBezTo>
                  <a:pt x="116133" y="375558"/>
                  <a:pt x="11935" y="439734"/>
                  <a:pt x="110346" y="397558"/>
                </a:cubicBezTo>
                <a:cubicBezTo>
                  <a:pt x="122371" y="392404"/>
                  <a:pt x="131048" y="381100"/>
                  <a:pt x="143003" y="375787"/>
                </a:cubicBezTo>
                <a:cubicBezTo>
                  <a:pt x="163974" y="366466"/>
                  <a:pt x="208317" y="354015"/>
                  <a:pt x="208317" y="354015"/>
                </a:cubicBezTo>
                <a:cubicBezTo>
                  <a:pt x="246317" y="316017"/>
                  <a:pt x="220352" y="335490"/>
                  <a:pt x="295403" y="310473"/>
                </a:cubicBezTo>
                <a:lnTo>
                  <a:pt x="328060" y="299587"/>
                </a:lnTo>
                <a:lnTo>
                  <a:pt x="360717" y="288701"/>
                </a:lnTo>
                <a:cubicBezTo>
                  <a:pt x="349831" y="281444"/>
                  <a:pt x="340015" y="272243"/>
                  <a:pt x="328060" y="266930"/>
                </a:cubicBezTo>
                <a:cubicBezTo>
                  <a:pt x="307089" y="257609"/>
                  <a:pt x="284517" y="252415"/>
                  <a:pt x="262746" y="245158"/>
                </a:cubicBezTo>
                <a:cubicBezTo>
                  <a:pt x="220689" y="231139"/>
                  <a:pt x="228194" y="232143"/>
                  <a:pt x="175660" y="223387"/>
                </a:cubicBezTo>
                <a:cubicBezTo>
                  <a:pt x="150351" y="219169"/>
                  <a:pt x="124704" y="217091"/>
                  <a:pt x="99460" y="212501"/>
                </a:cubicBezTo>
                <a:cubicBezTo>
                  <a:pt x="69393" y="207034"/>
                  <a:pt x="51237" y="200055"/>
                  <a:pt x="23260" y="190730"/>
                </a:cubicBezTo>
                <a:cubicBezTo>
                  <a:pt x="81317" y="187101"/>
                  <a:pt x="139581" y="185934"/>
                  <a:pt x="197432" y="179844"/>
                </a:cubicBezTo>
                <a:cubicBezTo>
                  <a:pt x="208843" y="178643"/>
                  <a:pt x="221975" y="177072"/>
                  <a:pt x="230089" y="168958"/>
                </a:cubicBezTo>
                <a:cubicBezTo>
                  <a:pt x="238203" y="160844"/>
                  <a:pt x="237346" y="147187"/>
                  <a:pt x="240974" y="136301"/>
                </a:cubicBezTo>
                <a:cubicBezTo>
                  <a:pt x="237346" y="103644"/>
                  <a:pt x="238734" y="70030"/>
                  <a:pt x="230089" y="38330"/>
                </a:cubicBezTo>
                <a:cubicBezTo>
                  <a:pt x="205751" y="-50908"/>
                  <a:pt x="208317" y="49765"/>
                  <a:pt x="208317" y="5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Box 40"/>
          <p:cNvSpPr/>
          <p:nvPr/>
        </p:nvSpPr>
        <p:spPr>
          <a:xfrm>
            <a:off x="3395520" y="4667400"/>
            <a:ext cx="1189440" cy="13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Magne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tõmba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kinn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Box 41"/>
          <p:cNvSpPr/>
          <p:nvPr/>
        </p:nvSpPr>
        <p:spPr>
          <a:xfrm>
            <a:off x="483840" y="2449440"/>
            <a:ext cx="162252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Magnet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ei ole vool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Box 42"/>
          <p:cNvSpPr/>
          <p:nvPr/>
        </p:nvSpPr>
        <p:spPr>
          <a:xfrm>
            <a:off x="702000" y="5180040"/>
            <a:ext cx="1419840" cy="13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Magnet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antak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vo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Miks releed? Näide.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3400" y="83772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  <a:ea typeface="Times New Roman"/>
              </a:rPr>
              <a:t>Realiseerime lausearvutuse valemi   </a:t>
            </a:r>
            <a:r>
              <a:rPr b="0" lang="et-EE" sz="2000" spc="-1" strike="noStrike">
                <a:solidFill>
                  <a:srgbClr val="c00000"/>
                </a:solidFill>
                <a:latin typeface="Bitstream Vera Sans"/>
                <a:ea typeface="Times New Roman"/>
              </a:rPr>
              <a:t>Not (A &amp; B)  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  <a:ea typeface="Times New Roman"/>
              </a:rPr>
              <a:t>releedega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16" name="Group 3"/>
          <p:cNvGrpSpPr/>
          <p:nvPr/>
        </p:nvGrpSpPr>
        <p:grpSpPr>
          <a:xfrm>
            <a:off x="914400" y="298440"/>
            <a:ext cx="7769160" cy="311040"/>
            <a:chOff x="914400" y="298440"/>
            <a:chExt cx="7769160" cy="311040"/>
          </a:xfrm>
        </p:grpSpPr>
        <p:sp>
          <p:nvSpPr>
            <p:cNvPr id="117" name="Line 4"/>
            <p:cNvSpPr/>
            <p:nvPr/>
          </p:nvSpPr>
          <p:spPr>
            <a:xfrm>
              <a:off x="914400" y="604800"/>
              <a:ext cx="77659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Line 5"/>
            <p:cNvSpPr/>
            <p:nvPr/>
          </p:nvSpPr>
          <p:spPr>
            <a:xfrm flipV="1">
              <a:off x="8683560" y="29844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Rectangle 36"/>
          <p:cNvSpPr/>
          <p:nvPr/>
        </p:nvSpPr>
        <p:spPr>
          <a:xfrm>
            <a:off x="2286000" y="2209680"/>
            <a:ext cx="1143000" cy="6858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rel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0" name="Straight Arrow Connector 7"/>
          <p:cNvCxnSpPr/>
          <p:nvPr/>
        </p:nvCxnSpPr>
        <p:spPr>
          <a:xfrm>
            <a:off x="914400" y="2666520"/>
            <a:ext cx="1372320" cy="108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" name="Straight Arrow Connector 39"/>
          <p:cNvCxnSpPr>
            <a:endCxn id="119" idx="2"/>
          </p:cNvCxnSpPr>
          <p:nvPr/>
        </p:nvCxnSpPr>
        <p:spPr>
          <a:xfrm flipV="1">
            <a:off x="914400" y="2894760"/>
            <a:ext cx="1944000" cy="68652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2" name="Straight Arrow Connector 43"/>
          <p:cNvCxnSpPr/>
          <p:nvPr/>
        </p:nvCxnSpPr>
        <p:spPr>
          <a:xfrm>
            <a:off x="3429000" y="2677680"/>
            <a:ext cx="2743920" cy="52416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23" name="TextBox 14"/>
          <p:cNvSpPr/>
          <p:nvPr/>
        </p:nvSpPr>
        <p:spPr>
          <a:xfrm>
            <a:off x="3940920" y="2352600"/>
            <a:ext cx="9928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A &amp; 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44"/>
          <p:cNvSpPr/>
          <p:nvPr/>
        </p:nvSpPr>
        <p:spPr>
          <a:xfrm>
            <a:off x="5589720" y="3238560"/>
            <a:ext cx="1143000" cy="6858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rel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5" name="Straight Arrow Connector 45"/>
          <p:cNvCxnSpPr/>
          <p:nvPr/>
        </p:nvCxnSpPr>
        <p:spPr>
          <a:xfrm>
            <a:off x="4218120" y="3809520"/>
            <a:ext cx="1372320" cy="108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6" name="Straight Arrow Connector 47"/>
          <p:cNvCxnSpPr/>
          <p:nvPr/>
        </p:nvCxnSpPr>
        <p:spPr>
          <a:xfrm>
            <a:off x="6732720" y="3733560"/>
            <a:ext cx="1372320" cy="108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27" name="TextBox 48"/>
          <p:cNvSpPr/>
          <p:nvPr/>
        </p:nvSpPr>
        <p:spPr>
          <a:xfrm>
            <a:off x="6955560" y="3238560"/>
            <a:ext cx="173052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Not (A &amp; B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Box 49"/>
          <p:cNvSpPr/>
          <p:nvPr/>
        </p:nvSpPr>
        <p:spPr>
          <a:xfrm>
            <a:off x="876960" y="2160720"/>
            <a:ext cx="40032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Box 50"/>
          <p:cNvSpPr/>
          <p:nvPr/>
        </p:nvSpPr>
        <p:spPr>
          <a:xfrm>
            <a:off x="855000" y="3006720"/>
            <a:ext cx="38340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Box 51"/>
          <p:cNvSpPr/>
          <p:nvPr/>
        </p:nvSpPr>
        <p:spPr>
          <a:xfrm>
            <a:off x="3747960" y="3959280"/>
            <a:ext cx="126720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toitevo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Box 16"/>
          <p:cNvSpPr/>
          <p:nvPr/>
        </p:nvSpPr>
        <p:spPr>
          <a:xfrm>
            <a:off x="5621040" y="2548080"/>
            <a:ext cx="272592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Magnet tõmbab lah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Box 53"/>
          <p:cNvSpPr/>
          <p:nvPr/>
        </p:nvSpPr>
        <p:spPr>
          <a:xfrm>
            <a:off x="2296440" y="3043080"/>
            <a:ext cx="280980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Magnet tõmbab kinn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Box 18"/>
          <p:cNvSpPr/>
          <p:nvPr/>
        </p:nvSpPr>
        <p:spPr>
          <a:xfrm>
            <a:off x="656280" y="5410080"/>
            <a:ext cx="7938000" cy="6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  <a:ea typeface="Tahoma"/>
              </a:rPr>
              <a:t>Keerukamaid asju, näiteks liitmist ja korrutamist, ehitataks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  <a:ea typeface="Tahoma"/>
              </a:rPr>
              <a:t>suure hulga lausearvutuse tehetena umbes samal moe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R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adiolambi tööpõhimõt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36" name="Group 3"/>
          <p:cNvGrpSpPr/>
          <p:nvPr/>
        </p:nvGrpSpPr>
        <p:grpSpPr>
          <a:xfrm>
            <a:off x="914400" y="298440"/>
            <a:ext cx="7769160" cy="311040"/>
            <a:chOff x="914400" y="298440"/>
            <a:chExt cx="7769160" cy="311040"/>
          </a:xfrm>
        </p:grpSpPr>
        <p:sp>
          <p:nvSpPr>
            <p:cNvPr id="137" name="Line 4"/>
            <p:cNvSpPr/>
            <p:nvPr/>
          </p:nvSpPr>
          <p:spPr>
            <a:xfrm>
              <a:off x="914400" y="604800"/>
              <a:ext cx="77659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Line 5"/>
            <p:cNvSpPr/>
            <p:nvPr/>
          </p:nvSpPr>
          <p:spPr>
            <a:xfrm flipV="1">
              <a:off x="8683560" y="29844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9" name="Group 6"/>
          <p:cNvGrpSpPr/>
          <p:nvPr/>
        </p:nvGrpSpPr>
        <p:grpSpPr>
          <a:xfrm>
            <a:off x="1143000" y="685800"/>
            <a:ext cx="6397560" cy="2587680"/>
            <a:chOff x="1143000" y="685800"/>
            <a:chExt cx="6397560" cy="2587680"/>
          </a:xfrm>
        </p:grpSpPr>
        <p:grpSp>
          <p:nvGrpSpPr>
            <p:cNvPr id="140" name="Group 7"/>
            <p:cNvGrpSpPr/>
            <p:nvPr/>
          </p:nvGrpSpPr>
          <p:grpSpPr>
            <a:xfrm>
              <a:off x="1143000" y="838080"/>
              <a:ext cx="4492800" cy="1664640"/>
              <a:chOff x="1143000" y="838080"/>
              <a:chExt cx="4492800" cy="1664640"/>
            </a:xfrm>
          </p:grpSpPr>
          <p:sp>
            <p:nvSpPr>
              <p:cNvPr id="141" name="AutoShape 8"/>
              <p:cNvSpPr/>
              <p:nvPr/>
            </p:nvSpPr>
            <p:spPr>
              <a:xfrm>
                <a:off x="1143000" y="838080"/>
                <a:ext cx="4492800" cy="1597320"/>
              </a:xfrm>
              <a:prstGeom prst="roundRect">
                <a:avLst>
                  <a:gd name="adj" fmla="val 9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Text Box 9"/>
              <p:cNvSpPr/>
              <p:nvPr/>
            </p:nvSpPr>
            <p:spPr>
              <a:xfrm>
                <a:off x="1143000" y="838080"/>
                <a:ext cx="4492800" cy="166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333360" indent="-333360">
                  <a:lnSpc>
                    <a:spcPct val="88000"/>
                  </a:lnSpc>
                  <a:spcAft>
                    <a:spcPts val="1012"/>
                  </a:spcAft>
                  <a:buClr>
                    <a:srgbClr val="3333ff"/>
                  </a:buClr>
                  <a:buFont typeface="Wingdings" charset="2"/>
                  <a:buChar char=""/>
                  <a:tabLst>
                    <a:tab algn="l" pos="333360"/>
                    <a:tab algn="l" pos="781200"/>
                    <a:tab algn="l" pos="1230480"/>
                    <a:tab algn="l" pos="1679400"/>
                    <a:tab algn="l" pos="2128680"/>
                    <a:tab algn="l" pos="2577960"/>
                    <a:tab algn="l" pos="3027240"/>
                    <a:tab algn="l" pos="3476520"/>
                    <a:tab algn="l" pos="3925800"/>
                    <a:tab algn="l" pos="4375080"/>
                    <a:tab algn="l" pos="4824360"/>
                    <a:tab algn="l" pos="5273640"/>
                    <a:tab algn="l" pos="5722920"/>
                    <a:tab algn="l" pos="6172200"/>
                    <a:tab algn="l" pos="6621480"/>
                    <a:tab algn="l" pos="7070760"/>
                    <a:tab algn="l" pos="7520040"/>
                    <a:tab algn="l" pos="7969320"/>
                    <a:tab algn="l" pos="8418600"/>
                    <a:tab algn="l" pos="8867880"/>
                    <a:tab algn="l" pos="931716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 u="sng">
                    <a:solidFill>
                      <a:srgbClr val="0000ff"/>
                    </a:solidFill>
                    <a:uFillTx/>
                    <a:latin typeface="Bitstream Vera Sans"/>
                    <a:ea typeface="SimSun"/>
                  </a:rPr>
                  <a:t>Vacuum Tube</a:t>
                </a:r>
                <a:r>
                  <a:rPr b="0" lang="en-GB" sz="1800" spc="-1" strike="noStrike">
                    <a:solidFill>
                      <a:srgbClr val="0000ff"/>
                    </a:solidFill>
                    <a:latin typeface="Bitstream Vera Sans"/>
                    <a:ea typeface="SimSun"/>
                  </a:rPr>
                  <a:t> (1906, Lee Deforest)</a:t>
                </a:r>
                <a:r>
                  <a:rPr b="0" lang="ar-SA" sz="1800" spc="-1" strike="noStrike">
                    <a:solidFill>
                      <a:srgbClr val="0000ff"/>
                    </a:solidFill>
                    <a:latin typeface="Bitstream Vera Sans"/>
                    <a:ea typeface="SimSun"/>
                  </a:rPr>
                  <a:t>‏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marL="333360" indent="-333360">
                  <a:lnSpc>
                    <a:spcPct val="88000"/>
                  </a:lnSpc>
                  <a:tabLst>
                    <a:tab algn="l" pos="0"/>
                    <a:tab algn="l" pos="333360"/>
                    <a:tab algn="l" pos="781200"/>
                    <a:tab algn="l" pos="1230480"/>
                    <a:tab algn="l" pos="1679400"/>
                    <a:tab algn="l" pos="2128680"/>
                    <a:tab algn="l" pos="2577960"/>
                    <a:tab algn="l" pos="3027240"/>
                    <a:tab algn="l" pos="3476520"/>
                    <a:tab algn="l" pos="3925800"/>
                    <a:tab algn="l" pos="4375080"/>
                    <a:tab algn="l" pos="4824360"/>
                    <a:tab algn="l" pos="5273640"/>
                    <a:tab algn="l" pos="5722920"/>
                    <a:tab algn="l" pos="6172200"/>
                    <a:tab algn="l" pos="6621480"/>
                    <a:tab algn="l" pos="7070760"/>
                    <a:tab algn="l" pos="7520040"/>
                    <a:tab algn="l" pos="7969320"/>
                    <a:tab algn="l" pos="8418600"/>
                    <a:tab algn="l" pos="8867880"/>
                    <a:tab algn="l" pos="931716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SimSun"/>
                  </a:rPr>
                  <a:t>    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SimSun"/>
                  </a:rPr>
                  <a:t>Three elements device used as electronic switch and amplifier: two electrodes separated by a grid in a vacuum glass enclosure.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143" name="Picture 10" descr=""/>
            <p:cNvPicPr/>
            <p:nvPr/>
          </p:nvPicPr>
          <p:blipFill>
            <a:blip r:embed="rId1"/>
            <a:stretch/>
          </p:blipFill>
          <p:spPr>
            <a:xfrm>
              <a:off x="6324480" y="685800"/>
              <a:ext cx="1216080" cy="258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" name="Group 11"/>
          <p:cNvGrpSpPr/>
          <p:nvPr/>
        </p:nvGrpSpPr>
        <p:grpSpPr>
          <a:xfrm>
            <a:off x="380880" y="3259080"/>
            <a:ext cx="8531280" cy="3138480"/>
            <a:chOff x="380880" y="3259080"/>
            <a:chExt cx="8531280" cy="3138480"/>
          </a:xfrm>
        </p:grpSpPr>
        <p:grpSp>
          <p:nvGrpSpPr>
            <p:cNvPr id="145" name="Group 12"/>
            <p:cNvGrpSpPr/>
            <p:nvPr/>
          </p:nvGrpSpPr>
          <p:grpSpPr>
            <a:xfrm>
              <a:off x="380880" y="3505320"/>
              <a:ext cx="4950000" cy="2892240"/>
              <a:chOff x="380880" y="3505320"/>
              <a:chExt cx="4950000" cy="2892240"/>
            </a:xfrm>
          </p:grpSpPr>
          <p:sp>
            <p:nvSpPr>
              <p:cNvPr id="146" name="AutoShape 13"/>
              <p:cNvSpPr/>
              <p:nvPr/>
            </p:nvSpPr>
            <p:spPr>
              <a:xfrm>
                <a:off x="380880" y="3505320"/>
                <a:ext cx="4950000" cy="2892240"/>
              </a:xfrm>
              <a:prstGeom prst="roundRect">
                <a:avLst>
                  <a:gd name="adj" fmla="val 5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Text Box 14"/>
              <p:cNvSpPr/>
              <p:nvPr/>
            </p:nvSpPr>
            <p:spPr>
              <a:xfrm>
                <a:off x="380880" y="3505320"/>
                <a:ext cx="4950000" cy="270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333360" indent="-333360">
                  <a:lnSpc>
                    <a:spcPct val="88000"/>
                  </a:lnSpc>
                  <a:spcAft>
                    <a:spcPts val="788"/>
                  </a:spcAft>
                  <a:buClr>
                    <a:srgbClr val="3333ff"/>
                  </a:buClr>
                  <a:buFont typeface="Wingdings" charset="2"/>
                  <a:buChar char=""/>
                  <a:tabLst>
                    <a:tab algn="l" pos="333360"/>
                    <a:tab algn="l" pos="781200"/>
                    <a:tab algn="l" pos="1230480"/>
                    <a:tab algn="l" pos="1679400"/>
                    <a:tab algn="l" pos="2128680"/>
                    <a:tab algn="l" pos="2577960"/>
                    <a:tab algn="l" pos="3027240"/>
                    <a:tab algn="l" pos="3476520"/>
                    <a:tab algn="l" pos="3925800"/>
                    <a:tab algn="l" pos="4375080"/>
                    <a:tab algn="l" pos="4824360"/>
                    <a:tab algn="l" pos="5273640"/>
                    <a:tab algn="l" pos="5722920"/>
                    <a:tab algn="l" pos="6172200"/>
                    <a:tab algn="l" pos="6621480"/>
                    <a:tab algn="l" pos="7070760"/>
                    <a:tab algn="l" pos="7520040"/>
                    <a:tab algn="l" pos="7969320"/>
                    <a:tab algn="l" pos="8418600"/>
                    <a:tab algn="l" pos="8867880"/>
                    <a:tab algn="l" pos="931716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 u="sng">
                    <a:solidFill>
                      <a:srgbClr val="0000ff"/>
                    </a:solidFill>
                    <a:uFillTx/>
                    <a:latin typeface="Bitstream Vera Sans"/>
                    <a:ea typeface="SimSun"/>
                  </a:rPr>
                  <a:t>Principle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SimSun"/>
                  </a:rPr>
                  <a:t>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marL="333360" indent="-333360">
                  <a:lnSpc>
                    <a:spcPct val="88000"/>
                  </a:lnSpc>
                  <a:tabLst>
                    <a:tab algn="l" pos="0"/>
                    <a:tab algn="l" pos="333360"/>
                    <a:tab algn="l" pos="781200"/>
                    <a:tab algn="l" pos="1230480"/>
                    <a:tab algn="l" pos="1679400"/>
                    <a:tab algn="l" pos="2128680"/>
                    <a:tab algn="l" pos="2577960"/>
                    <a:tab algn="l" pos="3027240"/>
                    <a:tab algn="l" pos="3476520"/>
                    <a:tab algn="l" pos="3925800"/>
                    <a:tab algn="l" pos="4375080"/>
                    <a:tab algn="l" pos="4824360"/>
                    <a:tab algn="l" pos="5273640"/>
                    <a:tab algn="l" pos="5722920"/>
                    <a:tab algn="l" pos="6172200"/>
                    <a:tab algn="l" pos="6621480"/>
                    <a:tab algn="l" pos="7070760"/>
                    <a:tab algn="l" pos="7520040"/>
                    <a:tab algn="l" pos="7969320"/>
                    <a:tab algn="l" pos="8418600"/>
                    <a:tab algn="l" pos="8867880"/>
                    <a:tab algn="l" pos="931716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SimSun"/>
                  </a:rPr>
                  <a:t>     </a:t>
                </a:r>
                <a:r>
                  <a:rPr b="0" i="1" lang="en-GB" sz="1800" spc="-1" strike="noStrike">
                    <a:solidFill>
                      <a:srgbClr val="000000"/>
                    </a:solidFill>
                    <a:latin typeface="Bitstream Vera Sans"/>
                    <a:ea typeface="SimSun"/>
                  </a:rPr>
                  <a:t>Cathode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SimSun"/>
                  </a:rPr>
                  <a:t> - emits electrons;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marL="333360" indent="-333360">
                  <a:lnSpc>
                    <a:spcPct val="88000"/>
                  </a:lnSpc>
                  <a:spcBef>
                    <a:spcPts val="337"/>
                  </a:spcBef>
                  <a:tabLst>
                    <a:tab algn="l" pos="0"/>
                    <a:tab algn="l" pos="333360"/>
                    <a:tab algn="l" pos="781200"/>
                    <a:tab algn="l" pos="1230480"/>
                    <a:tab algn="l" pos="1679400"/>
                    <a:tab algn="l" pos="2128680"/>
                    <a:tab algn="l" pos="2577960"/>
                    <a:tab algn="l" pos="3027240"/>
                    <a:tab algn="l" pos="3476520"/>
                    <a:tab algn="l" pos="3925800"/>
                    <a:tab algn="l" pos="4375080"/>
                    <a:tab algn="l" pos="4824360"/>
                    <a:tab algn="l" pos="5273640"/>
                    <a:tab algn="l" pos="5722920"/>
                    <a:tab algn="l" pos="6172200"/>
                    <a:tab algn="l" pos="6621480"/>
                    <a:tab algn="l" pos="7070760"/>
                    <a:tab algn="l" pos="7520040"/>
                    <a:tab algn="l" pos="7969320"/>
                    <a:tab algn="l" pos="8418600"/>
                    <a:tab algn="l" pos="8867880"/>
                    <a:tab algn="l" pos="931716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SimSun"/>
                  </a:rPr>
                  <a:t>      </a:t>
                </a:r>
                <a:r>
                  <a:rPr b="0" i="1" lang="en-GB" sz="1800" spc="-1" strike="noStrike">
                    <a:solidFill>
                      <a:srgbClr val="000000"/>
                    </a:solidFill>
                    <a:latin typeface="Bitstream Vera Sans"/>
                    <a:ea typeface="SimSun"/>
                  </a:rPr>
                  <a:t>Plate (anode)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SimSun"/>
                  </a:rPr>
                  <a:t> - receives the electrons;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marL="333360" indent="-333360">
                  <a:lnSpc>
                    <a:spcPct val="88000"/>
                  </a:lnSpc>
                  <a:spcBef>
                    <a:spcPts val="451"/>
                  </a:spcBef>
                  <a:tabLst>
                    <a:tab algn="l" pos="0"/>
                    <a:tab algn="l" pos="333360"/>
                    <a:tab algn="l" pos="781200"/>
                    <a:tab algn="l" pos="1230480"/>
                    <a:tab algn="l" pos="1679400"/>
                    <a:tab algn="l" pos="2128680"/>
                    <a:tab algn="l" pos="2577960"/>
                    <a:tab algn="l" pos="3027240"/>
                    <a:tab algn="l" pos="3476520"/>
                    <a:tab algn="l" pos="3925800"/>
                    <a:tab algn="l" pos="4375080"/>
                    <a:tab algn="l" pos="4824360"/>
                    <a:tab algn="l" pos="5273640"/>
                    <a:tab algn="l" pos="5722920"/>
                    <a:tab algn="l" pos="6172200"/>
                    <a:tab algn="l" pos="6621480"/>
                    <a:tab algn="l" pos="7070760"/>
                    <a:tab algn="l" pos="7520040"/>
                    <a:tab algn="l" pos="7969320"/>
                    <a:tab algn="l" pos="8418600"/>
                    <a:tab algn="l" pos="8867880"/>
                    <a:tab algn="l" pos="931716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SimSun"/>
                  </a:rPr>
                  <a:t>      </a:t>
                </a:r>
                <a:r>
                  <a:rPr b="0" i="1" lang="en-GB" sz="1800" spc="-1" strike="noStrike">
                    <a:solidFill>
                      <a:srgbClr val="000000"/>
                    </a:solidFill>
                    <a:latin typeface="Bitstream Vera Sans"/>
                    <a:ea typeface="SimSun"/>
                  </a:rPr>
                  <a:t>Grid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SimSun"/>
                  </a:rPr>
                  <a:t> - with negative bias voltage repels some of the electrons and prevents them from reaching the plate, resulting in less current flow. A changing negative charge on the grid modulates the plate current.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Group 15"/>
            <p:cNvGrpSpPr/>
            <p:nvPr/>
          </p:nvGrpSpPr>
          <p:grpSpPr>
            <a:xfrm>
              <a:off x="7010280" y="3259080"/>
              <a:ext cx="1901880" cy="2540520"/>
              <a:chOff x="7010280" y="3259080"/>
              <a:chExt cx="1901880" cy="2540520"/>
            </a:xfrm>
          </p:grpSpPr>
          <p:pic>
            <p:nvPicPr>
              <p:cNvPr id="149" name="Picture 16" descr=""/>
              <p:cNvPicPr/>
              <p:nvPr/>
            </p:nvPicPr>
            <p:blipFill>
              <a:blip r:embed="rId2"/>
              <a:stretch/>
            </p:blipFill>
            <p:spPr>
              <a:xfrm>
                <a:off x="7061040" y="3259080"/>
                <a:ext cx="1749600" cy="250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 Box 17"/>
              <p:cNvSpPr/>
              <p:nvPr/>
            </p:nvSpPr>
            <p:spPr>
              <a:xfrm>
                <a:off x="7061040" y="5616720"/>
                <a:ext cx="10638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Cathod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Text Box 18"/>
              <p:cNvSpPr/>
              <p:nvPr/>
            </p:nvSpPr>
            <p:spPr>
              <a:xfrm>
                <a:off x="8102520" y="3263760"/>
                <a:ext cx="809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Anod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Text Box 19"/>
              <p:cNvSpPr/>
              <p:nvPr/>
            </p:nvSpPr>
            <p:spPr>
              <a:xfrm>
                <a:off x="7010280" y="3321000"/>
                <a:ext cx="530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Grid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1947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Times New Roman"/>
              </a:rPr>
              <a:t>Three scientists at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  <a:ea typeface="Times New Roman"/>
              </a:rPr>
              <a:t>Bell Telephone Laboratories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Times New Roman"/>
              </a:rPr>
              <a:t>, William Shockley, Walter Brattain, and John Bardeen demonstrate their new invention of the point-contact transistor amplifier.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55" name="Group 3"/>
          <p:cNvGrpSpPr/>
          <p:nvPr/>
        </p:nvGrpSpPr>
        <p:grpSpPr>
          <a:xfrm>
            <a:off x="914400" y="298440"/>
            <a:ext cx="7769160" cy="311040"/>
            <a:chOff x="914400" y="298440"/>
            <a:chExt cx="7769160" cy="311040"/>
          </a:xfrm>
        </p:grpSpPr>
        <p:sp>
          <p:nvSpPr>
            <p:cNvPr id="156" name="Line 4"/>
            <p:cNvSpPr/>
            <p:nvPr/>
          </p:nvSpPr>
          <p:spPr>
            <a:xfrm>
              <a:off x="914400" y="604800"/>
              <a:ext cx="77659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Line 5"/>
            <p:cNvSpPr/>
            <p:nvPr/>
          </p:nvSpPr>
          <p:spPr>
            <a:xfrm flipV="1">
              <a:off x="8683560" y="29844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58" name="Picture 6" descr=""/>
          <p:cNvPicPr/>
          <p:nvPr/>
        </p:nvPicPr>
        <p:blipFill>
          <a:blip r:embed="rId1"/>
          <a:stretch/>
        </p:blipFill>
        <p:spPr>
          <a:xfrm>
            <a:off x="2743200" y="2133720"/>
            <a:ext cx="3048120" cy="4114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omponend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2"/>
          <p:cNvSpPr/>
          <p:nvPr/>
        </p:nvSpPr>
        <p:spPr>
          <a:xfrm>
            <a:off x="838080" y="685800"/>
            <a:ext cx="7848720" cy="76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eamine idee: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ransistorid kui “katkestusmootoriga” lüliti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C = (A and -B)</a:t>
            </a:r>
            <a:r>
              <a:rPr b="1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äikestest komponentidest ehitatakse suuremaid, millest omakorda veel suuremai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mponendid on kui mustad kastid: teame nende väljundit vastava sisendi korral, aga enamasti mitte nende tehnilist sisu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1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162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4" name="AutoShape 6"/>
          <p:cNvSpPr/>
          <p:nvPr/>
        </p:nvSpPr>
        <p:spPr>
          <a:xfrm>
            <a:off x="3657600" y="2286000"/>
            <a:ext cx="1371600" cy="914400"/>
          </a:xfrm>
          <a:prstGeom prst="roundRect">
            <a:avLst>
              <a:gd name="adj" fmla="val 171"/>
            </a:avLst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Line 7"/>
          <p:cNvSpPr/>
          <p:nvPr/>
        </p:nvSpPr>
        <p:spPr>
          <a:xfrm>
            <a:off x="1371600" y="3048120"/>
            <a:ext cx="220968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Line 8"/>
          <p:cNvSpPr/>
          <p:nvPr/>
        </p:nvSpPr>
        <p:spPr>
          <a:xfrm>
            <a:off x="4267080" y="1523880"/>
            <a:ext cx="1800" cy="68580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Line 9"/>
          <p:cNvSpPr/>
          <p:nvPr/>
        </p:nvSpPr>
        <p:spPr>
          <a:xfrm>
            <a:off x="5029200" y="3048120"/>
            <a:ext cx="175248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AutoShape 10"/>
          <p:cNvSpPr/>
          <p:nvPr/>
        </p:nvSpPr>
        <p:spPr>
          <a:xfrm>
            <a:off x="1360080" y="3184560"/>
            <a:ext cx="1454040" cy="82476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send 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ool sees:  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ool väljas: 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AutoShape 11"/>
          <p:cNvSpPr/>
          <p:nvPr/>
        </p:nvSpPr>
        <p:spPr>
          <a:xfrm>
            <a:off x="5246280" y="3184560"/>
            <a:ext cx="1454040" cy="82476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äljund C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ool sees:  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ool väljas: 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AutoShape 12"/>
          <p:cNvSpPr/>
          <p:nvPr/>
        </p:nvSpPr>
        <p:spPr>
          <a:xfrm>
            <a:off x="4332960" y="1432080"/>
            <a:ext cx="2433960" cy="82476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üliti B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ool sees,  1:   katkes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ool väljas, 0:  ühen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nel</dc:creator>
  <dc:description/>
  <dc:language>en-US</dc:language>
  <cp:lastModifiedBy>Tanel Tammet</cp:lastModifiedBy>
  <dcterms:modified xsi:type="dcterms:W3CDTF">2020-09-10T05:08:26Z</dcterms:modified>
  <cp:revision>20</cp:revision>
  <dc:subject/>
  <dc:title>PowerPoint Presentation</dc:title>
</cp:coreProperties>
</file>